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438264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676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438264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73400" y="438264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8720" y="16761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6360" y="16761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438264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8720" y="438264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6360" y="438264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3792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73400" y="1676160"/>
            <a:ext cx="3792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676160"/>
            <a:ext cx="3792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438264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3792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676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73400" y="438264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1676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38264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8534520" y="6480000"/>
            <a:ext cx="76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28EE-5614-47E3-88F8-08EE119139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Wind Energy and </a:t>
            </a:r>
            <a:br>
              <a:rPr sz="4400"/>
            </a:b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Electricity Market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ss Bald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artment of Electrical and Computer Engine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niversity of Texas at Aus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8,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1d58"/>
                </a:solidFill>
                <a:latin typeface="Times New Roman"/>
              </a:rPr>
              <a:t>Dispatch for 1500 MW demand, unlimited transmission capacity.</a:t>
            </a:r>
            <a:endParaRPr b="0" lang="en-US" sz="4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3657600" y="3657600"/>
            <a:ext cx="0" cy="82224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5943600" y="3581280"/>
            <a:ext cx="0" cy="91440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6481440" y="5562720"/>
            <a:ext cx="1502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00 M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2590920" y="2057400"/>
            <a:ext cx="1828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at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 M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7848720" y="3581280"/>
            <a:ext cx="0" cy="91440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Group 26"/>
          <p:cNvGrpSpPr/>
          <p:nvPr/>
        </p:nvGrpSpPr>
        <p:grpSpPr>
          <a:xfrm>
            <a:off x="0" y="1752480"/>
            <a:ext cx="1828800" cy="1295640"/>
            <a:chOff x="0" y="1752480"/>
            <a:chExt cx="1828800" cy="1295640"/>
          </a:xfrm>
        </p:grpSpPr>
        <p:sp>
          <p:nvSpPr>
            <p:cNvPr id="128" name="Rectangle 13"/>
            <p:cNvSpPr/>
            <p:nvPr/>
          </p:nvSpPr>
          <p:spPr>
            <a:xfrm>
              <a:off x="0" y="1828440"/>
              <a:ext cx="146232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pat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 M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" name="Picture 5" descr="C:\Users\baldick\AppData\Local\Microsoft\Windows\Temporary Internet Files\Content.IE5\9KA9IYP9\MCj02808140000[1].wmf"/>
            <p:cNvPicPr/>
            <p:nvPr/>
          </p:nvPicPr>
          <p:blipFill>
            <a:blip r:embed="rId1"/>
            <a:stretch/>
          </p:blipFill>
          <p:spPr>
            <a:xfrm>
              <a:off x="1371600" y="1752480"/>
              <a:ext cx="457200" cy="1295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0" name="Picture 7" descr="C:\Users\baldick\AppData\Local\Microsoft\Windows\Temporary Internet Files\Content.IE5\UK5BVT5P\MCj04348070000[1].png"/>
          <p:cNvPicPr/>
          <p:nvPr/>
        </p:nvPicPr>
        <p:blipFill>
          <a:blip r:embed="rId2"/>
          <a:stretch/>
        </p:blipFill>
        <p:spPr>
          <a:xfrm>
            <a:off x="7848720" y="51814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131" name="Freeform 4"/>
          <p:cNvSpPr/>
          <p:nvPr/>
        </p:nvSpPr>
        <p:spPr>
          <a:xfrm>
            <a:off x="4419720" y="1981080"/>
            <a:ext cx="687240" cy="114480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4"/>
          <p:cNvSpPr/>
          <p:nvPr/>
        </p:nvSpPr>
        <p:spPr>
          <a:xfrm>
            <a:off x="8229600" y="1905120"/>
            <a:ext cx="687240" cy="1144440"/>
          </a:xfrm>
          <a:prstGeom prst="pie">
            <a:avLst/>
          </a:prstGeom>
          <a:solidFill>
            <a:srgbClr val="c0c0c0"/>
          </a:solidFill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5257800" y="1752480"/>
            <a:ext cx="29718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atch 300  MW; highest accep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r pric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00/MW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27"/>
          <p:cNvGrpSpPr/>
          <p:nvPr/>
        </p:nvGrpSpPr>
        <p:grpSpPr>
          <a:xfrm>
            <a:off x="0" y="3733920"/>
            <a:ext cx="1828800" cy="1295280"/>
            <a:chOff x="0" y="3733920"/>
            <a:chExt cx="1828800" cy="1295280"/>
          </a:xfrm>
        </p:grpSpPr>
        <p:sp>
          <p:nvSpPr>
            <p:cNvPr id="135" name="Rectangle 13"/>
            <p:cNvSpPr/>
            <p:nvPr/>
          </p:nvSpPr>
          <p:spPr>
            <a:xfrm>
              <a:off x="0" y="3809880"/>
              <a:ext cx="1462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patch 50 M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Picture 5" descr="C:\Users\baldick\AppData\Local\Microsoft\Windows\Temporary Internet Files\Content.IE5\9KA9IYP9\MCj02808140000[1].wmf"/>
            <p:cNvPicPr/>
            <p:nvPr/>
          </p:nvPicPr>
          <p:blipFill>
            <a:blip r:embed="rId3"/>
            <a:stretch/>
          </p:blipFill>
          <p:spPr>
            <a:xfrm>
              <a:off x="1371600" y="3733920"/>
              <a:ext cx="457200" cy="12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Group 30"/>
          <p:cNvGrpSpPr/>
          <p:nvPr/>
        </p:nvGrpSpPr>
        <p:grpSpPr>
          <a:xfrm>
            <a:off x="0" y="5562720"/>
            <a:ext cx="1828800" cy="1295280"/>
            <a:chOff x="0" y="5562720"/>
            <a:chExt cx="1828800" cy="1295280"/>
          </a:xfrm>
        </p:grpSpPr>
        <p:sp>
          <p:nvSpPr>
            <p:cNvPr id="138" name="Rectangle 13"/>
            <p:cNvSpPr/>
            <p:nvPr/>
          </p:nvSpPr>
          <p:spPr>
            <a:xfrm>
              <a:off x="0" y="5638680"/>
              <a:ext cx="1462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patch 50 M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9" name="Picture 5" descr="C:\Users\baldick\AppData\Local\Microsoft\Windows\Temporary Internet Files\Content.IE5\9KA9IYP9\MCj02808140000[1].wmf"/>
            <p:cNvPicPr/>
            <p:nvPr/>
          </p:nvPicPr>
          <p:blipFill>
            <a:blip r:embed="rId4"/>
            <a:stretch/>
          </p:blipFill>
          <p:spPr>
            <a:xfrm>
              <a:off x="1371600" y="5562720"/>
              <a:ext cx="457200" cy="12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Group 33"/>
          <p:cNvGrpSpPr/>
          <p:nvPr/>
        </p:nvGrpSpPr>
        <p:grpSpPr>
          <a:xfrm>
            <a:off x="2971800" y="5562720"/>
            <a:ext cx="1828800" cy="1295280"/>
            <a:chOff x="2971800" y="5562720"/>
            <a:chExt cx="1828800" cy="1295280"/>
          </a:xfrm>
        </p:grpSpPr>
        <p:sp>
          <p:nvSpPr>
            <p:cNvPr id="141" name="Rectangle 13"/>
            <p:cNvSpPr/>
            <p:nvPr/>
          </p:nvSpPr>
          <p:spPr>
            <a:xfrm>
              <a:off x="2971800" y="5638680"/>
              <a:ext cx="1462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pat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 M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2" name="Picture 5" descr="C:\Users\baldick\AppData\Local\Microsoft\Windows\Temporary Internet Files\Content.IE5\9KA9IYP9\MCj02808140000[1].wmf"/>
            <p:cNvPicPr/>
            <p:nvPr/>
          </p:nvPicPr>
          <p:blipFill>
            <a:blip r:embed="rId5"/>
            <a:stretch/>
          </p:blipFill>
          <p:spPr>
            <a:xfrm>
              <a:off x="4343400" y="5562720"/>
              <a:ext cx="457200" cy="129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Straight Connector 37"/>
          <p:cNvSpPr/>
          <p:nvPr/>
        </p:nvSpPr>
        <p:spPr>
          <a:xfrm>
            <a:off x="1600200" y="2971800"/>
            <a:ext cx="2057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traight Connector 41"/>
          <p:cNvSpPr/>
          <p:nvPr/>
        </p:nvSpPr>
        <p:spPr>
          <a:xfrm flipV="1">
            <a:off x="1599480" y="4038480"/>
            <a:ext cx="205740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traight Connector 43"/>
          <p:cNvSpPr/>
          <p:nvPr/>
        </p:nvSpPr>
        <p:spPr>
          <a:xfrm flipV="1">
            <a:off x="1599480" y="4266720"/>
            <a:ext cx="2057400" cy="259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traight Connector 45"/>
          <p:cNvSpPr/>
          <p:nvPr/>
        </p:nvSpPr>
        <p:spPr>
          <a:xfrm flipV="1">
            <a:off x="4572000" y="4343040"/>
            <a:ext cx="137160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traight Connector 47"/>
          <p:cNvSpPr/>
          <p:nvPr/>
        </p:nvSpPr>
        <p:spPr>
          <a:xfrm>
            <a:off x="4800600" y="3124080"/>
            <a:ext cx="11430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traight Connector 49"/>
          <p:cNvSpPr/>
          <p:nvPr/>
        </p:nvSpPr>
        <p:spPr>
          <a:xfrm flipV="1">
            <a:off x="7848000" y="304776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Straight Arrow Connector 51"/>
          <p:cNvCxnSpPr/>
          <p:nvPr/>
        </p:nvCxnSpPr>
        <p:spPr>
          <a:xfrm>
            <a:off x="7847640" y="4343400"/>
            <a:ext cx="610200" cy="991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Straight Connector 53"/>
          <p:cNvSpPr/>
          <p:nvPr/>
        </p:nvSpPr>
        <p:spPr>
          <a:xfrm>
            <a:off x="3657600" y="4038480"/>
            <a:ext cx="228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traight Connector 55"/>
          <p:cNvSpPr/>
          <p:nvPr/>
        </p:nvSpPr>
        <p:spPr>
          <a:xfrm>
            <a:off x="5943600" y="4038480"/>
            <a:ext cx="1905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Box 32"/>
          <p:cNvSpPr/>
          <p:nvPr/>
        </p:nvSpPr>
        <p:spPr>
          <a:xfrm>
            <a:off x="3735360" y="41911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33"/>
          <p:cNvSpPr/>
          <p:nvPr/>
        </p:nvSpPr>
        <p:spPr>
          <a:xfrm>
            <a:off x="5945040" y="41911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34"/>
          <p:cNvSpPr/>
          <p:nvPr/>
        </p:nvSpPr>
        <p:spPr>
          <a:xfrm>
            <a:off x="8004600" y="380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37"/>
          <p:cNvSpPr/>
          <p:nvPr/>
        </p:nvSpPr>
        <p:spPr>
          <a:xfrm>
            <a:off x="4529160" y="6045120"/>
            <a:ext cx="93600" cy="773280"/>
          </a:xfrm>
          <a:prstGeom prst="pie">
            <a:avLst/>
          </a:prstGeom>
          <a:solidFill>
            <a:srgbClr val="fc0128"/>
          </a:solidFill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reeform 38"/>
          <p:cNvSpPr/>
          <p:nvPr/>
        </p:nvSpPr>
        <p:spPr>
          <a:xfrm>
            <a:off x="4549680" y="5875200"/>
            <a:ext cx="181080" cy="20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39"/>
          <p:cNvSpPr/>
          <p:nvPr/>
        </p:nvSpPr>
        <p:spPr>
          <a:xfrm>
            <a:off x="4589640" y="5950080"/>
            <a:ext cx="50760" cy="830160"/>
          </a:xfrm>
          <a:prstGeom prst="pie">
            <a:avLst/>
          </a:prstGeom>
          <a:solidFill>
            <a:srgbClr val="fc0128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reeform 40"/>
          <p:cNvSpPr/>
          <p:nvPr/>
        </p:nvSpPr>
        <p:spPr>
          <a:xfrm>
            <a:off x="4548240" y="5905440"/>
            <a:ext cx="204840" cy="52560"/>
          </a:xfrm>
          <a:prstGeom prst="pie">
            <a:avLst/>
          </a:prstGeom>
          <a:solidFill>
            <a:srgbClr val="c2d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41"/>
          <p:cNvSpPr/>
          <p:nvPr/>
        </p:nvSpPr>
        <p:spPr>
          <a:xfrm>
            <a:off x="4370400" y="5916600"/>
            <a:ext cx="160200" cy="419040"/>
          </a:xfrm>
          <a:prstGeom prst="pie">
            <a:avLst/>
          </a:pr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reeform 42"/>
          <p:cNvSpPr/>
          <p:nvPr/>
        </p:nvSpPr>
        <p:spPr>
          <a:xfrm>
            <a:off x="4648320" y="5943600"/>
            <a:ext cx="38160" cy="506520"/>
          </a:xfrm>
          <a:prstGeom prst="pie">
            <a:avLst/>
          </a:prstGeom>
          <a:solidFill>
            <a:srgbClr val="fc0128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43"/>
          <p:cNvSpPr/>
          <p:nvPr/>
        </p:nvSpPr>
        <p:spPr>
          <a:xfrm>
            <a:off x="4545000" y="5913360"/>
            <a:ext cx="217440" cy="54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reeform 44"/>
          <p:cNvSpPr/>
          <p:nvPr/>
        </p:nvSpPr>
        <p:spPr>
          <a:xfrm>
            <a:off x="4629240" y="6504120"/>
            <a:ext cx="30240" cy="304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reeform 45"/>
          <p:cNvSpPr/>
          <p:nvPr/>
        </p:nvSpPr>
        <p:spPr>
          <a:xfrm>
            <a:off x="4383000" y="5921280"/>
            <a:ext cx="154080" cy="416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46"/>
          <p:cNvSpPr/>
          <p:nvPr/>
        </p:nvSpPr>
        <p:spPr>
          <a:xfrm>
            <a:off x="4503600" y="5867280"/>
            <a:ext cx="49320" cy="69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reeform 47"/>
          <p:cNvSpPr/>
          <p:nvPr/>
        </p:nvSpPr>
        <p:spPr>
          <a:xfrm>
            <a:off x="1617840" y="2139840"/>
            <a:ext cx="50760" cy="830520"/>
          </a:xfrm>
          <a:prstGeom prst="pie">
            <a:avLst/>
          </a:prstGeom>
          <a:solidFill>
            <a:srgbClr val="99cc00"/>
          </a:solidFill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reeform 48"/>
          <p:cNvSpPr/>
          <p:nvPr/>
        </p:nvSpPr>
        <p:spPr>
          <a:xfrm>
            <a:off x="1557360" y="4216320"/>
            <a:ext cx="93600" cy="773280"/>
          </a:xfrm>
          <a:prstGeom prst="pie">
            <a:avLst/>
          </a:prstGeom>
          <a:solidFill>
            <a:srgbClr val="99cc00"/>
          </a:solidFill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reeform 49"/>
          <p:cNvSpPr/>
          <p:nvPr/>
        </p:nvSpPr>
        <p:spPr>
          <a:xfrm>
            <a:off x="1557360" y="6045120"/>
            <a:ext cx="93600" cy="773280"/>
          </a:xfrm>
          <a:prstGeom prst="pie">
            <a:avLst/>
          </a:prstGeom>
          <a:solidFill>
            <a:srgbClr val="99cc00"/>
          </a:solidFill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Box 35"/>
          <p:cNvSpPr/>
          <p:nvPr/>
        </p:nvSpPr>
        <p:spPr>
          <a:xfrm>
            <a:off x="4268520" y="3597120"/>
            <a:ext cx="13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0 M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36"/>
          <p:cNvSpPr/>
          <p:nvPr/>
        </p:nvSpPr>
        <p:spPr>
          <a:xfrm>
            <a:off x="6116400" y="3657600"/>
            <a:ext cx="142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00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52"/>
          <p:cNvSpPr/>
          <p:nvPr/>
        </p:nvSpPr>
        <p:spPr>
          <a:xfrm>
            <a:off x="5105520" y="4038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53"/>
          <p:cNvSpPr/>
          <p:nvPr/>
        </p:nvSpPr>
        <p:spPr>
          <a:xfrm>
            <a:off x="7086600" y="4038480"/>
            <a:ext cx="609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54"/>
          <p:cNvSpPr/>
          <p:nvPr/>
        </p:nvSpPr>
        <p:spPr>
          <a:xfrm>
            <a:off x="2438280" y="335268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55"/>
          <p:cNvSpPr/>
          <p:nvPr/>
        </p:nvSpPr>
        <p:spPr>
          <a:xfrm flipV="1">
            <a:off x="2666880" y="434304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57"/>
          <p:cNvSpPr/>
          <p:nvPr/>
        </p:nvSpPr>
        <p:spPr>
          <a:xfrm flipV="1">
            <a:off x="2743200" y="5029200"/>
            <a:ext cx="3049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58"/>
          <p:cNvSpPr/>
          <p:nvPr/>
        </p:nvSpPr>
        <p:spPr>
          <a:xfrm flipV="1">
            <a:off x="5257800" y="518148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59"/>
          <p:cNvSpPr/>
          <p:nvPr/>
        </p:nvSpPr>
        <p:spPr>
          <a:xfrm>
            <a:off x="4952880" y="3200400"/>
            <a:ext cx="6858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60"/>
          <p:cNvSpPr/>
          <p:nvPr/>
        </p:nvSpPr>
        <p:spPr>
          <a:xfrm flipH="1">
            <a:off x="8077320" y="32004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1d58"/>
                </a:solidFill>
                <a:latin typeface="Times New Roman"/>
              </a:rPr>
              <a:t>Prices for 1500 MW demand, </a:t>
            </a:r>
            <a:br>
              <a:rPr sz="4000"/>
            </a:br>
            <a:r>
              <a:rPr b="0" lang="en-US" sz="4000" spc="-1" strike="noStrike">
                <a:solidFill>
                  <a:srgbClr val="081d58"/>
                </a:solidFill>
                <a:latin typeface="Times New Roman"/>
              </a:rPr>
              <a:t>unlimited transmission capacity. </a:t>
            </a:r>
            <a:endParaRPr b="0" lang="en-US" sz="4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907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st accepted offer price was $100/MWh from “gray” thermal generator at bus 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erve an additional MW of demand at any bus would use an additional MW of “gray” gen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n” and “red” wind and “white” thermal generator all fully dispatch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ce paid to all generators and paid by demand is $100/MW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7631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1d58"/>
                </a:solidFill>
                <a:latin typeface="Times New Roman"/>
              </a:rPr>
              <a:t>Dispatch and prices for 1500 MW demand, unlimited transmission capacity.</a:t>
            </a:r>
            <a:endParaRPr b="0" lang="en-US" sz="4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1" name="Line 5"/>
          <p:cNvSpPr/>
          <p:nvPr/>
        </p:nvSpPr>
        <p:spPr>
          <a:xfrm>
            <a:off x="3657600" y="3657600"/>
            <a:ext cx="0" cy="82224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5943600" y="3581280"/>
            <a:ext cx="0" cy="91440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6476040" y="5257800"/>
            <a:ext cx="15879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00 M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an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00/MW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2590920" y="1828800"/>
            <a:ext cx="18288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at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 MW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$100/MW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6"/>
          <p:cNvSpPr/>
          <p:nvPr/>
        </p:nvSpPr>
        <p:spPr>
          <a:xfrm>
            <a:off x="7848720" y="3581280"/>
            <a:ext cx="0" cy="91440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0" y="1676520"/>
            <a:ext cx="18288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MW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$100/MW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5" descr="C:\Users\baldick\AppData\Local\Microsoft\Windows\Temporary Internet Files\Content.IE5\9KA9IYP9\MCj02808140000[1].wmf"/>
          <p:cNvPicPr/>
          <p:nvPr/>
        </p:nvPicPr>
        <p:blipFill>
          <a:blip r:embed="rId1"/>
          <a:stretch/>
        </p:blipFill>
        <p:spPr>
          <a:xfrm>
            <a:off x="1486080" y="1752480"/>
            <a:ext cx="495000" cy="1295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C:\Users\baldick\AppData\Local\Microsoft\Windows\Temporary Internet Files\Content.IE5\UK5BVT5P\MCj04348070000[1].png"/>
          <p:cNvPicPr/>
          <p:nvPr/>
        </p:nvPicPr>
        <p:blipFill>
          <a:blip r:embed="rId2"/>
          <a:stretch/>
        </p:blipFill>
        <p:spPr>
          <a:xfrm>
            <a:off x="7848720" y="51814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189" name="Freeform 4"/>
          <p:cNvSpPr/>
          <p:nvPr/>
        </p:nvSpPr>
        <p:spPr>
          <a:xfrm>
            <a:off x="4419720" y="1981080"/>
            <a:ext cx="687240" cy="114480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4"/>
          <p:cNvSpPr/>
          <p:nvPr/>
        </p:nvSpPr>
        <p:spPr>
          <a:xfrm>
            <a:off x="8229600" y="1905120"/>
            <a:ext cx="687240" cy="1144440"/>
          </a:xfrm>
          <a:prstGeom prst="pie">
            <a:avLst/>
          </a:prstGeom>
          <a:solidFill>
            <a:srgbClr val="c0c0c0"/>
          </a:solidFill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5257800" y="1600200"/>
            <a:ext cx="29718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at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buClr>
                <a:srgbClr val="000000"/>
              </a:buClr>
              <a:buFont typeface="Times New Roman"/>
              <a:buAutoNum type="arabicPlain" startAt="3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00/MW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0" y="3429000"/>
            <a:ext cx="19051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atch 50 MW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$100/MW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5" descr="C:\Users\baldick\AppData\Local\Microsoft\Windows\Temporary Internet Files\Content.IE5\9KA9IYP9\MCj02808140000[1].wmf"/>
          <p:cNvPicPr/>
          <p:nvPr/>
        </p:nvPicPr>
        <p:blipFill>
          <a:blip r:embed="rId3"/>
          <a:stretch/>
        </p:blipFill>
        <p:spPr>
          <a:xfrm>
            <a:off x="1486080" y="3733920"/>
            <a:ext cx="495000" cy="12952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3"/>
          <p:cNvSpPr/>
          <p:nvPr/>
        </p:nvSpPr>
        <p:spPr>
          <a:xfrm>
            <a:off x="0" y="5334120"/>
            <a:ext cx="18288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atch 50 MW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$100/MW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5" descr="C:\Users\baldick\AppData\Local\Microsoft\Windows\Temporary Internet Files\Content.IE5\9KA9IYP9\MCj02808140000[1].wmf"/>
          <p:cNvPicPr/>
          <p:nvPr/>
        </p:nvPicPr>
        <p:blipFill>
          <a:blip r:embed="rId4"/>
          <a:stretch/>
        </p:blipFill>
        <p:spPr>
          <a:xfrm>
            <a:off x="1542960" y="5562720"/>
            <a:ext cx="514440" cy="129528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2971800" y="5334120"/>
            <a:ext cx="17524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MW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$100/MW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5" descr="C:\Users\baldick\AppData\Local\Microsoft\Windows\Temporary Internet Files\Content.IE5\9KA9IYP9\MCj02808140000[1].wmf"/>
          <p:cNvPicPr/>
          <p:nvPr/>
        </p:nvPicPr>
        <p:blipFill>
          <a:blip r:embed="rId5"/>
          <a:stretch/>
        </p:blipFill>
        <p:spPr>
          <a:xfrm>
            <a:off x="4457880" y="5562720"/>
            <a:ext cx="495000" cy="1295280"/>
          </a:xfrm>
          <a:prstGeom prst="rect">
            <a:avLst/>
          </a:prstGeom>
          <a:ln w="0">
            <a:noFill/>
          </a:ln>
        </p:spPr>
      </p:pic>
      <p:sp>
        <p:nvSpPr>
          <p:cNvPr id="198" name="Straight Connector 37"/>
          <p:cNvSpPr/>
          <p:nvPr/>
        </p:nvSpPr>
        <p:spPr>
          <a:xfrm>
            <a:off x="1600200" y="2971800"/>
            <a:ext cx="2057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traight Connector 41"/>
          <p:cNvSpPr/>
          <p:nvPr/>
        </p:nvSpPr>
        <p:spPr>
          <a:xfrm flipV="1">
            <a:off x="1599480" y="4038480"/>
            <a:ext cx="205740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traight Connector 43"/>
          <p:cNvSpPr/>
          <p:nvPr/>
        </p:nvSpPr>
        <p:spPr>
          <a:xfrm flipV="1">
            <a:off x="1599480" y="4266720"/>
            <a:ext cx="2057400" cy="259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traight Connector 45"/>
          <p:cNvSpPr/>
          <p:nvPr/>
        </p:nvSpPr>
        <p:spPr>
          <a:xfrm flipV="1">
            <a:off x="4572000" y="4343040"/>
            <a:ext cx="137160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traight Connector 47"/>
          <p:cNvSpPr/>
          <p:nvPr/>
        </p:nvSpPr>
        <p:spPr>
          <a:xfrm>
            <a:off x="4800600" y="3124080"/>
            <a:ext cx="11430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traight Connector 49"/>
          <p:cNvSpPr/>
          <p:nvPr/>
        </p:nvSpPr>
        <p:spPr>
          <a:xfrm flipV="1">
            <a:off x="7848000" y="304776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Straight Arrow Connector 51"/>
          <p:cNvCxnSpPr/>
          <p:nvPr/>
        </p:nvCxnSpPr>
        <p:spPr>
          <a:xfrm>
            <a:off x="7847640" y="4343400"/>
            <a:ext cx="610200" cy="991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Straight Connector 53"/>
          <p:cNvSpPr/>
          <p:nvPr/>
        </p:nvSpPr>
        <p:spPr>
          <a:xfrm>
            <a:off x="3657600" y="4038480"/>
            <a:ext cx="228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traight Connector 55"/>
          <p:cNvSpPr/>
          <p:nvPr/>
        </p:nvSpPr>
        <p:spPr>
          <a:xfrm>
            <a:off x="5943600" y="4038480"/>
            <a:ext cx="1905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Box 32"/>
          <p:cNvSpPr/>
          <p:nvPr/>
        </p:nvSpPr>
        <p:spPr>
          <a:xfrm>
            <a:off x="3735360" y="41911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Box 33"/>
          <p:cNvSpPr/>
          <p:nvPr/>
        </p:nvSpPr>
        <p:spPr>
          <a:xfrm>
            <a:off x="5945040" y="41911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Box 34"/>
          <p:cNvSpPr/>
          <p:nvPr/>
        </p:nvSpPr>
        <p:spPr>
          <a:xfrm>
            <a:off x="8004600" y="380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reeform 36"/>
          <p:cNvSpPr/>
          <p:nvPr/>
        </p:nvSpPr>
        <p:spPr>
          <a:xfrm>
            <a:off x="4707000" y="6084720"/>
            <a:ext cx="93600" cy="773280"/>
          </a:xfrm>
          <a:prstGeom prst="pie">
            <a:avLst/>
          </a:prstGeom>
          <a:solidFill>
            <a:srgbClr val="fc0128"/>
          </a:solidFill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reeform 37"/>
          <p:cNvSpPr/>
          <p:nvPr/>
        </p:nvSpPr>
        <p:spPr>
          <a:xfrm>
            <a:off x="4549680" y="5875200"/>
            <a:ext cx="181080" cy="20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Freeform 38"/>
          <p:cNvSpPr/>
          <p:nvPr/>
        </p:nvSpPr>
        <p:spPr>
          <a:xfrm>
            <a:off x="4673520" y="5950080"/>
            <a:ext cx="50760" cy="830160"/>
          </a:xfrm>
          <a:prstGeom prst="pie">
            <a:avLst/>
          </a:prstGeom>
          <a:solidFill>
            <a:srgbClr val="fc0128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Freeform 39"/>
          <p:cNvSpPr/>
          <p:nvPr/>
        </p:nvSpPr>
        <p:spPr>
          <a:xfrm>
            <a:off x="4548240" y="5905440"/>
            <a:ext cx="204840" cy="52560"/>
          </a:xfrm>
          <a:prstGeom prst="pie">
            <a:avLst/>
          </a:prstGeom>
          <a:solidFill>
            <a:srgbClr val="c2d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reeform 40"/>
          <p:cNvSpPr/>
          <p:nvPr/>
        </p:nvSpPr>
        <p:spPr>
          <a:xfrm>
            <a:off x="4487760" y="5916600"/>
            <a:ext cx="160560" cy="419040"/>
          </a:xfrm>
          <a:prstGeom prst="pie">
            <a:avLst/>
          </a:pr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Freeform 41"/>
          <p:cNvSpPr/>
          <p:nvPr/>
        </p:nvSpPr>
        <p:spPr>
          <a:xfrm>
            <a:off x="4686480" y="5943600"/>
            <a:ext cx="37800" cy="506520"/>
          </a:xfrm>
          <a:prstGeom prst="pie">
            <a:avLst/>
          </a:prstGeom>
          <a:solidFill>
            <a:srgbClr val="fc0128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reeform 42"/>
          <p:cNvSpPr/>
          <p:nvPr/>
        </p:nvSpPr>
        <p:spPr>
          <a:xfrm>
            <a:off x="4545000" y="5913360"/>
            <a:ext cx="217440" cy="54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Freeform 43"/>
          <p:cNvSpPr/>
          <p:nvPr/>
        </p:nvSpPr>
        <p:spPr>
          <a:xfrm>
            <a:off x="4629240" y="6504120"/>
            <a:ext cx="30240" cy="304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Freeform 44"/>
          <p:cNvSpPr/>
          <p:nvPr/>
        </p:nvSpPr>
        <p:spPr>
          <a:xfrm>
            <a:off x="4494240" y="5921280"/>
            <a:ext cx="154080" cy="416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Freeform 45"/>
          <p:cNvSpPr/>
          <p:nvPr/>
        </p:nvSpPr>
        <p:spPr>
          <a:xfrm>
            <a:off x="4503600" y="5867280"/>
            <a:ext cx="49320" cy="69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reeform 46"/>
          <p:cNvSpPr/>
          <p:nvPr/>
        </p:nvSpPr>
        <p:spPr>
          <a:xfrm>
            <a:off x="1701720" y="2209680"/>
            <a:ext cx="50760" cy="830520"/>
          </a:xfrm>
          <a:prstGeom prst="pie">
            <a:avLst/>
          </a:prstGeom>
          <a:solidFill>
            <a:srgbClr val="99cc00"/>
          </a:solidFill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47"/>
          <p:cNvSpPr/>
          <p:nvPr/>
        </p:nvSpPr>
        <p:spPr>
          <a:xfrm>
            <a:off x="1735200" y="4191120"/>
            <a:ext cx="93600" cy="772920"/>
          </a:xfrm>
          <a:prstGeom prst="pie">
            <a:avLst/>
          </a:prstGeom>
          <a:solidFill>
            <a:srgbClr val="99cc00"/>
          </a:solidFill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reeform 48"/>
          <p:cNvSpPr/>
          <p:nvPr/>
        </p:nvSpPr>
        <p:spPr>
          <a:xfrm>
            <a:off x="1811160" y="6084720"/>
            <a:ext cx="93960" cy="773280"/>
          </a:xfrm>
          <a:prstGeom prst="pie">
            <a:avLst/>
          </a:prstGeom>
          <a:solidFill>
            <a:srgbClr val="99cc00"/>
          </a:solidFill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Box 35"/>
          <p:cNvSpPr/>
          <p:nvPr/>
        </p:nvSpPr>
        <p:spPr>
          <a:xfrm>
            <a:off x="4268520" y="3597120"/>
            <a:ext cx="13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0 M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36"/>
          <p:cNvSpPr/>
          <p:nvPr/>
        </p:nvSpPr>
        <p:spPr>
          <a:xfrm>
            <a:off x="6116400" y="3657600"/>
            <a:ext cx="142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00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51"/>
          <p:cNvSpPr/>
          <p:nvPr/>
        </p:nvSpPr>
        <p:spPr>
          <a:xfrm>
            <a:off x="5105520" y="4038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52"/>
          <p:cNvSpPr/>
          <p:nvPr/>
        </p:nvSpPr>
        <p:spPr>
          <a:xfrm>
            <a:off x="7086600" y="4038480"/>
            <a:ext cx="609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53"/>
          <p:cNvSpPr/>
          <p:nvPr/>
        </p:nvSpPr>
        <p:spPr>
          <a:xfrm>
            <a:off x="2438280" y="335268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54"/>
          <p:cNvSpPr/>
          <p:nvPr/>
        </p:nvSpPr>
        <p:spPr>
          <a:xfrm flipV="1">
            <a:off x="2666880" y="434304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55"/>
          <p:cNvSpPr/>
          <p:nvPr/>
        </p:nvSpPr>
        <p:spPr>
          <a:xfrm flipV="1">
            <a:off x="2743200" y="5029200"/>
            <a:ext cx="3049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56"/>
          <p:cNvSpPr/>
          <p:nvPr/>
        </p:nvSpPr>
        <p:spPr>
          <a:xfrm flipV="1">
            <a:off x="5257800" y="518148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57"/>
          <p:cNvSpPr/>
          <p:nvPr/>
        </p:nvSpPr>
        <p:spPr>
          <a:xfrm>
            <a:off x="4952880" y="3200400"/>
            <a:ext cx="6858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58"/>
          <p:cNvSpPr/>
          <p:nvPr/>
        </p:nvSpPr>
        <p:spPr>
          <a:xfrm flipH="1">
            <a:off x="8077320" y="32004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What is the effect of </a:t>
            </a:r>
            <a:br>
              <a:rPr sz="4400"/>
            </a:b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transmission limitations?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limited capacity of transmission prevents the use of an offer with a lower price then the highest accepted offer can be thought of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ry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the location of the b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al or “locational marginal prices” reflect this vari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speaking, the price at each bus is based on the offer price to meet an additional MW of dem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t that b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ERCOT, currently have coarser “zonal” representation of transmissio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1d58"/>
                </a:solidFill>
                <a:latin typeface="Times New Roman"/>
              </a:rPr>
              <a:t>Example 2: transmission limits, </a:t>
            </a:r>
            <a:br>
              <a:rPr sz="4000"/>
            </a:br>
            <a:r>
              <a:rPr b="0" lang="en-US" sz="4000" spc="-1" strike="noStrike">
                <a:solidFill>
                  <a:srgbClr val="081d58"/>
                </a:solidFill>
                <a:latin typeface="Times New Roman"/>
              </a:rPr>
              <a:t>1500 MW demand at N, block offers.</a:t>
            </a:r>
            <a:endParaRPr b="0" lang="en-US" sz="4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3657600" y="3657600"/>
            <a:ext cx="0" cy="82224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6"/>
          <p:cNvSpPr/>
          <p:nvPr/>
        </p:nvSpPr>
        <p:spPr>
          <a:xfrm>
            <a:off x="5943600" y="3581280"/>
            <a:ext cx="0" cy="91440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6481440" y="5562720"/>
            <a:ext cx="1502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00 M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1"/>
          <p:cNvSpPr/>
          <p:nvPr/>
        </p:nvSpPr>
        <p:spPr>
          <a:xfrm>
            <a:off x="6400800" y="1905120"/>
            <a:ext cx="1828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 MW offer @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00/MW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6"/>
          <p:cNvSpPr/>
          <p:nvPr/>
        </p:nvSpPr>
        <p:spPr>
          <a:xfrm>
            <a:off x="7848720" y="3581280"/>
            <a:ext cx="0" cy="91440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Group 26"/>
          <p:cNvGrpSpPr/>
          <p:nvPr/>
        </p:nvGrpSpPr>
        <p:grpSpPr>
          <a:xfrm>
            <a:off x="0" y="1752480"/>
            <a:ext cx="1828800" cy="1295640"/>
            <a:chOff x="0" y="1752480"/>
            <a:chExt cx="1828800" cy="1295640"/>
          </a:xfrm>
        </p:grpSpPr>
        <p:sp>
          <p:nvSpPr>
            <p:cNvPr id="242" name="Rectangle 13"/>
            <p:cNvSpPr/>
            <p:nvPr/>
          </p:nvSpPr>
          <p:spPr>
            <a:xfrm>
              <a:off x="0" y="1828440"/>
              <a:ext cx="146232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 M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ffer  @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20/MW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3" name="Picture 5" descr="C:\Users\baldick\AppData\Local\Microsoft\Windows\Temporary Internet Files\Content.IE5\9KA9IYP9\MCj02808140000[1].wmf"/>
            <p:cNvPicPr/>
            <p:nvPr/>
          </p:nvPicPr>
          <p:blipFill>
            <a:blip r:embed="rId1"/>
            <a:stretch/>
          </p:blipFill>
          <p:spPr>
            <a:xfrm>
              <a:off x="1371600" y="1752480"/>
              <a:ext cx="457200" cy="1295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4" name="Picture 7" descr="C:\Users\baldick\AppData\Local\Microsoft\Windows\Temporary Internet Files\Content.IE5\UK5BVT5P\MCj04348070000[1].png"/>
          <p:cNvPicPr/>
          <p:nvPr/>
        </p:nvPicPr>
        <p:blipFill>
          <a:blip r:embed="rId2"/>
          <a:stretch/>
        </p:blipFill>
        <p:spPr>
          <a:xfrm>
            <a:off x="7848720" y="51814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245" name="Freeform 4"/>
          <p:cNvSpPr/>
          <p:nvPr/>
        </p:nvSpPr>
        <p:spPr>
          <a:xfrm>
            <a:off x="5105520" y="1981080"/>
            <a:ext cx="687240" cy="114480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reeform 4"/>
          <p:cNvSpPr/>
          <p:nvPr/>
        </p:nvSpPr>
        <p:spPr>
          <a:xfrm>
            <a:off x="8229600" y="1905120"/>
            <a:ext cx="687240" cy="1144440"/>
          </a:xfrm>
          <a:prstGeom prst="pie">
            <a:avLst/>
          </a:prstGeom>
          <a:solidFill>
            <a:srgbClr val="c0c0c0"/>
          </a:solidFill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1"/>
          <p:cNvSpPr/>
          <p:nvPr/>
        </p:nvSpPr>
        <p:spPr>
          <a:xfrm>
            <a:off x="3276720" y="1905120"/>
            <a:ext cx="1828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 MW offer @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50/MW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Group 27"/>
          <p:cNvGrpSpPr/>
          <p:nvPr/>
        </p:nvGrpSpPr>
        <p:grpSpPr>
          <a:xfrm>
            <a:off x="0" y="3733920"/>
            <a:ext cx="1828800" cy="1295280"/>
            <a:chOff x="0" y="3733920"/>
            <a:chExt cx="1828800" cy="1295280"/>
          </a:xfrm>
        </p:grpSpPr>
        <p:sp>
          <p:nvSpPr>
            <p:cNvPr id="249" name="Rectangle 13"/>
            <p:cNvSpPr/>
            <p:nvPr/>
          </p:nvSpPr>
          <p:spPr>
            <a:xfrm>
              <a:off x="0" y="3809880"/>
              <a:ext cx="146232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 M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ffer  @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20/MW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0" name="Picture 5" descr="C:\Users\baldick\AppData\Local\Microsoft\Windows\Temporary Internet Files\Content.IE5\9KA9IYP9\MCj02808140000[1].wmf"/>
            <p:cNvPicPr/>
            <p:nvPr/>
          </p:nvPicPr>
          <p:blipFill>
            <a:blip r:embed="rId3"/>
            <a:stretch/>
          </p:blipFill>
          <p:spPr>
            <a:xfrm>
              <a:off x="1371600" y="3733920"/>
              <a:ext cx="457200" cy="12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1" name="Group 30"/>
          <p:cNvGrpSpPr/>
          <p:nvPr/>
        </p:nvGrpSpPr>
        <p:grpSpPr>
          <a:xfrm>
            <a:off x="0" y="5562720"/>
            <a:ext cx="1828800" cy="1295280"/>
            <a:chOff x="0" y="5562720"/>
            <a:chExt cx="1828800" cy="1295280"/>
          </a:xfrm>
        </p:grpSpPr>
        <p:sp>
          <p:nvSpPr>
            <p:cNvPr id="252" name="Rectangle 13"/>
            <p:cNvSpPr/>
            <p:nvPr/>
          </p:nvSpPr>
          <p:spPr>
            <a:xfrm>
              <a:off x="0" y="5638680"/>
              <a:ext cx="146232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 M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ffer  @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20/MW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3" name="Picture 5" descr="C:\Users\baldick\AppData\Local\Microsoft\Windows\Temporary Internet Files\Content.IE5\9KA9IYP9\MCj02808140000[1].wmf"/>
            <p:cNvPicPr/>
            <p:nvPr/>
          </p:nvPicPr>
          <p:blipFill>
            <a:blip r:embed="rId4"/>
            <a:stretch/>
          </p:blipFill>
          <p:spPr>
            <a:xfrm>
              <a:off x="1371600" y="5562720"/>
              <a:ext cx="457200" cy="12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4" name="Group 33"/>
          <p:cNvGrpSpPr/>
          <p:nvPr/>
        </p:nvGrpSpPr>
        <p:grpSpPr>
          <a:xfrm>
            <a:off x="2971800" y="5562720"/>
            <a:ext cx="1828800" cy="1295280"/>
            <a:chOff x="2971800" y="5562720"/>
            <a:chExt cx="1828800" cy="1295280"/>
          </a:xfrm>
        </p:grpSpPr>
        <p:sp>
          <p:nvSpPr>
            <p:cNvPr id="255" name="Rectangle 13"/>
            <p:cNvSpPr/>
            <p:nvPr/>
          </p:nvSpPr>
          <p:spPr>
            <a:xfrm>
              <a:off x="2971800" y="5638680"/>
              <a:ext cx="146232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 M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ffer  @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20/MW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6" name="Picture 5" descr="C:\Users\baldick\AppData\Local\Microsoft\Windows\Temporary Internet Files\Content.IE5\9KA9IYP9\MCj02808140000[1].wmf"/>
            <p:cNvPicPr/>
            <p:nvPr/>
          </p:nvPicPr>
          <p:blipFill>
            <a:blip r:embed="rId5"/>
            <a:stretch/>
          </p:blipFill>
          <p:spPr>
            <a:xfrm>
              <a:off x="4343400" y="5562720"/>
              <a:ext cx="457200" cy="129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7" name="Straight Connector 37"/>
          <p:cNvSpPr/>
          <p:nvPr/>
        </p:nvSpPr>
        <p:spPr>
          <a:xfrm>
            <a:off x="1600200" y="2971800"/>
            <a:ext cx="2057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41"/>
          <p:cNvSpPr/>
          <p:nvPr/>
        </p:nvSpPr>
        <p:spPr>
          <a:xfrm flipV="1">
            <a:off x="1599480" y="4038480"/>
            <a:ext cx="205740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traight Connector 43"/>
          <p:cNvSpPr/>
          <p:nvPr/>
        </p:nvSpPr>
        <p:spPr>
          <a:xfrm flipV="1">
            <a:off x="1599480" y="4266720"/>
            <a:ext cx="2057400" cy="259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45"/>
          <p:cNvSpPr/>
          <p:nvPr/>
        </p:nvSpPr>
        <p:spPr>
          <a:xfrm flipV="1">
            <a:off x="4572000" y="4343040"/>
            <a:ext cx="137160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traight Connector 47"/>
          <p:cNvSpPr/>
          <p:nvPr/>
        </p:nvSpPr>
        <p:spPr>
          <a:xfrm>
            <a:off x="5486400" y="31240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traight Connector 49"/>
          <p:cNvSpPr/>
          <p:nvPr/>
        </p:nvSpPr>
        <p:spPr>
          <a:xfrm flipV="1">
            <a:off x="7848000" y="304776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Straight Arrow Connector 51"/>
          <p:cNvCxnSpPr/>
          <p:nvPr/>
        </p:nvCxnSpPr>
        <p:spPr>
          <a:xfrm>
            <a:off x="7847640" y="4343400"/>
            <a:ext cx="610200" cy="991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4" name="Straight Connector 53"/>
          <p:cNvSpPr/>
          <p:nvPr/>
        </p:nvSpPr>
        <p:spPr>
          <a:xfrm>
            <a:off x="3657600" y="4038480"/>
            <a:ext cx="228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traight Connector 55"/>
          <p:cNvSpPr/>
          <p:nvPr/>
        </p:nvSpPr>
        <p:spPr>
          <a:xfrm>
            <a:off x="5943600" y="4038480"/>
            <a:ext cx="1905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32"/>
          <p:cNvSpPr/>
          <p:nvPr/>
        </p:nvSpPr>
        <p:spPr>
          <a:xfrm>
            <a:off x="3737160" y="41911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Box 33"/>
          <p:cNvSpPr/>
          <p:nvPr/>
        </p:nvSpPr>
        <p:spPr>
          <a:xfrm>
            <a:off x="5946480" y="41911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34"/>
          <p:cNvSpPr/>
          <p:nvPr/>
        </p:nvSpPr>
        <p:spPr>
          <a:xfrm>
            <a:off x="8004600" y="380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35"/>
          <p:cNvSpPr/>
          <p:nvPr/>
        </p:nvSpPr>
        <p:spPr>
          <a:xfrm>
            <a:off x="4281480" y="3597120"/>
            <a:ext cx="13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M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Box 36"/>
          <p:cNvSpPr/>
          <p:nvPr/>
        </p:nvSpPr>
        <p:spPr>
          <a:xfrm>
            <a:off x="6338520" y="3657600"/>
            <a:ext cx="142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39"/>
          <p:cNvSpPr/>
          <p:nvPr/>
        </p:nvSpPr>
        <p:spPr>
          <a:xfrm>
            <a:off x="4529160" y="6045120"/>
            <a:ext cx="93600" cy="773280"/>
          </a:xfrm>
          <a:prstGeom prst="pie">
            <a:avLst/>
          </a:prstGeom>
          <a:solidFill>
            <a:srgbClr val="fc0128"/>
          </a:solidFill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Freeform 40"/>
          <p:cNvSpPr/>
          <p:nvPr/>
        </p:nvSpPr>
        <p:spPr>
          <a:xfrm>
            <a:off x="4549680" y="5875200"/>
            <a:ext cx="181080" cy="20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Freeform 41"/>
          <p:cNvSpPr/>
          <p:nvPr/>
        </p:nvSpPr>
        <p:spPr>
          <a:xfrm>
            <a:off x="4589640" y="5950080"/>
            <a:ext cx="50760" cy="830160"/>
          </a:xfrm>
          <a:prstGeom prst="pie">
            <a:avLst/>
          </a:prstGeom>
          <a:solidFill>
            <a:srgbClr val="fc0128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reeform 42"/>
          <p:cNvSpPr/>
          <p:nvPr/>
        </p:nvSpPr>
        <p:spPr>
          <a:xfrm>
            <a:off x="4548240" y="5905440"/>
            <a:ext cx="204840" cy="52560"/>
          </a:xfrm>
          <a:prstGeom prst="pie">
            <a:avLst/>
          </a:prstGeom>
          <a:solidFill>
            <a:srgbClr val="c2d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Freeform 43"/>
          <p:cNvSpPr/>
          <p:nvPr/>
        </p:nvSpPr>
        <p:spPr>
          <a:xfrm>
            <a:off x="4370400" y="5916600"/>
            <a:ext cx="160200" cy="419040"/>
          </a:xfrm>
          <a:prstGeom prst="pie">
            <a:avLst/>
          </a:pr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reeform 44"/>
          <p:cNvSpPr/>
          <p:nvPr/>
        </p:nvSpPr>
        <p:spPr>
          <a:xfrm>
            <a:off x="4648320" y="5943600"/>
            <a:ext cx="38160" cy="506520"/>
          </a:xfrm>
          <a:prstGeom prst="pie">
            <a:avLst/>
          </a:prstGeom>
          <a:solidFill>
            <a:srgbClr val="fc0128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reeform 45"/>
          <p:cNvSpPr/>
          <p:nvPr/>
        </p:nvSpPr>
        <p:spPr>
          <a:xfrm>
            <a:off x="4545000" y="5913360"/>
            <a:ext cx="217440" cy="54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Freeform 46"/>
          <p:cNvSpPr/>
          <p:nvPr/>
        </p:nvSpPr>
        <p:spPr>
          <a:xfrm>
            <a:off x="4629240" y="6504120"/>
            <a:ext cx="30240" cy="304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Freeform 47"/>
          <p:cNvSpPr/>
          <p:nvPr/>
        </p:nvSpPr>
        <p:spPr>
          <a:xfrm>
            <a:off x="4383000" y="5921280"/>
            <a:ext cx="154080" cy="416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48"/>
          <p:cNvSpPr/>
          <p:nvPr/>
        </p:nvSpPr>
        <p:spPr>
          <a:xfrm>
            <a:off x="4503600" y="5867280"/>
            <a:ext cx="49320" cy="69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Freeform 49"/>
          <p:cNvSpPr/>
          <p:nvPr/>
        </p:nvSpPr>
        <p:spPr>
          <a:xfrm>
            <a:off x="1617840" y="2139840"/>
            <a:ext cx="50760" cy="830520"/>
          </a:xfrm>
          <a:prstGeom prst="pie">
            <a:avLst/>
          </a:prstGeom>
          <a:solidFill>
            <a:srgbClr val="99cc00"/>
          </a:solidFill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reeform 50"/>
          <p:cNvSpPr/>
          <p:nvPr/>
        </p:nvSpPr>
        <p:spPr>
          <a:xfrm>
            <a:off x="1557360" y="4216320"/>
            <a:ext cx="93600" cy="773280"/>
          </a:xfrm>
          <a:prstGeom prst="pie">
            <a:avLst/>
          </a:prstGeom>
          <a:solidFill>
            <a:srgbClr val="99cc00"/>
          </a:solidFill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51"/>
          <p:cNvSpPr/>
          <p:nvPr/>
        </p:nvSpPr>
        <p:spPr>
          <a:xfrm>
            <a:off x="1557360" y="6045120"/>
            <a:ext cx="93600" cy="773280"/>
          </a:xfrm>
          <a:prstGeom prst="pie">
            <a:avLst/>
          </a:prstGeom>
          <a:solidFill>
            <a:srgbClr val="99cc00"/>
          </a:solidFill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1d58"/>
                </a:solidFill>
                <a:latin typeface="Times New Roman"/>
              </a:rPr>
              <a:t>Dispatch for 1500 MW demand, limited transmission capacity.</a:t>
            </a:r>
            <a:endParaRPr b="0" lang="en-US" sz="4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>
            <a:off x="3657600" y="3657600"/>
            <a:ext cx="0" cy="82224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6"/>
          <p:cNvSpPr/>
          <p:nvPr/>
        </p:nvSpPr>
        <p:spPr>
          <a:xfrm>
            <a:off x="5943600" y="3581280"/>
            <a:ext cx="0" cy="91440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6481440" y="5562720"/>
            <a:ext cx="1502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00 M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2590920" y="2057400"/>
            <a:ext cx="1828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at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0 M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6"/>
          <p:cNvSpPr/>
          <p:nvPr/>
        </p:nvSpPr>
        <p:spPr>
          <a:xfrm>
            <a:off x="7848720" y="3581280"/>
            <a:ext cx="0" cy="91440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7" descr="C:\Users\baldick\AppData\Local\Microsoft\Windows\Temporary Internet Files\Content.IE5\UK5BVT5P\MCj04348070000[1].png"/>
          <p:cNvPicPr/>
          <p:nvPr/>
        </p:nvPicPr>
        <p:blipFill>
          <a:blip r:embed="rId1"/>
          <a:stretch/>
        </p:blipFill>
        <p:spPr>
          <a:xfrm>
            <a:off x="7848720" y="51814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291" name="Freeform 4"/>
          <p:cNvSpPr/>
          <p:nvPr/>
        </p:nvSpPr>
        <p:spPr>
          <a:xfrm>
            <a:off x="4419720" y="1981080"/>
            <a:ext cx="687240" cy="114480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reeform 4"/>
          <p:cNvSpPr/>
          <p:nvPr/>
        </p:nvSpPr>
        <p:spPr>
          <a:xfrm>
            <a:off x="8229600" y="1905120"/>
            <a:ext cx="687240" cy="1144440"/>
          </a:xfrm>
          <a:prstGeom prst="pie">
            <a:avLst/>
          </a:prstGeom>
          <a:solidFill>
            <a:srgbClr val="c0c0c0"/>
          </a:solidFill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1"/>
          <p:cNvSpPr/>
          <p:nvPr/>
        </p:nvSpPr>
        <p:spPr>
          <a:xfrm>
            <a:off x="5257800" y="1752480"/>
            <a:ext cx="2971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at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  M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C:\Users\baldick\AppData\Local\Microsoft\Windows\Temporary Internet Files\Content.IE5\9KA9IYP9\MCj02808140000[1].wmf"/>
          <p:cNvPicPr/>
          <p:nvPr/>
        </p:nvPicPr>
        <p:blipFill>
          <a:blip r:embed="rId2"/>
          <a:stretch/>
        </p:blipFill>
        <p:spPr>
          <a:xfrm>
            <a:off x="1371600" y="3733920"/>
            <a:ext cx="457200" cy="1295280"/>
          </a:xfrm>
          <a:prstGeom prst="rect">
            <a:avLst/>
          </a:prstGeom>
          <a:ln w="0">
            <a:noFill/>
          </a:ln>
        </p:spPr>
      </p:pic>
      <p:grpSp>
        <p:nvGrpSpPr>
          <p:cNvPr id="295" name="Group 33"/>
          <p:cNvGrpSpPr/>
          <p:nvPr/>
        </p:nvGrpSpPr>
        <p:grpSpPr>
          <a:xfrm>
            <a:off x="2971800" y="5562720"/>
            <a:ext cx="1828800" cy="1295280"/>
            <a:chOff x="2971800" y="5562720"/>
            <a:chExt cx="1828800" cy="1295280"/>
          </a:xfrm>
        </p:grpSpPr>
        <p:sp>
          <p:nvSpPr>
            <p:cNvPr id="296" name="Rectangle 13"/>
            <p:cNvSpPr/>
            <p:nvPr/>
          </p:nvSpPr>
          <p:spPr>
            <a:xfrm>
              <a:off x="2971800" y="5638680"/>
              <a:ext cx="1462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pat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 M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7" name="Picture 5" descr="C:\Users\baldick\AppData\Local\Microsoft\Windows\Temporary Internet Files\Content.IE5\9KA9IYP9\MCj02808140000[1].wmf"/>
            <p:cNvPicPr/>
            <p:nvPr/>
          </p:nvPicPr>
          <p:blipFill>
            <a:blip r:embed="rId3"/>
            <a:stretch/>
          </p:blipFill>
          <p:spPr>
            <a:xfrm>
              <a:off x="4343400" y="5562720"/>
              <a:ext cx="457200" cy="129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8" name="Straight Connector 37"/>
          <p:cNvSpPr/>
          <p:nvPr/>
        </p:nvSpPr>
        <p:spPr>
          <a:xfrm>
            <a:off x="1600200" y="2971800"/>
            <a:ext cx="2057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Straight Connector 41"/>
          <p:cNvSpPr/>
          <p:nvPr/>
        </p:nvSpPr>
        <p:spPr>
          <a:xfrm flipV="1">
            <a:off x="1599480" y="4038480"/>
            <a:ext cx="205740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Straight Connector 43"/>
          <p:cNvSpPr/>
          <p:nvPr/>
        </p:nvSpPr>
        <p:spPr>
          <a:xfrm flipV="1">
            <a:off x="1599480" y="4266720"/>
            <a:ext cx="2057400" cy="259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traight Connector 45"/>
          <p:cNvSpPr/>
          <p:nvPr/>
        </p:nvSpPr>
        <p:spPr>
          <a:xfrm flipV="1">
            <a:off x="4572000" y="4343040"/>
            <a:ext cx="137160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traight Connector 47"/>
          <p:cNvSpPr/>
          <p:nvPr/>
        </p:nvSpPr>
        <p:spPr>
          <a:xfrm>
            <a:off x="4800600" y="3124080"/>
            <a:ext cx="11430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traight Connector 49"/>
          <p:cNvSpPr/>
          <p:nvPr/>
        </p:nvSpPr>
        <p:spPr>
          <a:xfrm flipV="1">
            <a:off x="7848000" y="304776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4" name="Straight Arrow Connector 51"/>
          <p:cNvCxnSpPr/>
          <p:nvPr/>
        </p:nvCxnSpPr>
        <p:spPr>
          <a:xfrm>
            <a:off x="7847640" y="4343400"/>
            <a:ext cx="610200" cy="991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5" name="Straight Connector 53"/>
          <p:cNvSpPr/>
          <p:nvPr/>
        </p:nvSpPr>
        <p:spPr>
          <a:xfrm>
            <a:off x="3657600" y="4038480"/>
            <a:ext cx="228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traight Connector 55"/>
          <p:cNvSpPr/>
          <p:nvPr/>
        </p:nvSpPr>
        <p:spPr>
          <a:xfrm>
            <a:off x="5943600" y="4038480"/>
            <a:ext cx="1905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Box 32"/>
          <p:cNvSpPr/>
          <p:nvPr/>
        </p:nvSpPr>
        <p:spPr>
          <a:xfrm>
            <a:off x="3737160" y="41911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Box 33"/>
          <p:cNvSpPr/>
          <p:nvPr/>
        </p:nvSpPr>
        <p:spPr>
          <a:xfrm>
            <a:off x="5946480" y="41911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34"/>
          <p:cNvSpPr/>
          <p:nvPr/>
        </p:nvSpPr>
        <p:spPr>
          <a:xfrm>
            <a:off x="8004600" y="380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35"/>
          <p:cNvSpPr/>
          <p:nvPr/>
        </p:nvSpPr>
        <p:spPr>
          <a:xfrm>
            <a:off x="4278240" y="3613320"/>
            <a:ext cx="149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M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Box 36"/>
          <p:cNvSpPr/>
          <p:nvPr/>
        </p:nvSpPr>
        <p:spPr>
          <a:xfrm>
            <a:off x="6271920" y="3613320"/>
            <a:ext cx="149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0" y="2666880"/>
            <a:ext cx="146196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wind turb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5" descr="C:\Users\baldick\AppData\Local\Microsoft\Windows\Temporary Internet Files\Content.IE5\9KA9IYP9\MCj02808140000[1].wmf"/>
          <p:cNvPicPr/>
          <p:nvPr/>
        </p:nvPicPr>
        <p:blipFill>
          <a:blip r:embed="rId4"/>
          <a:stretch/>
        </p:blipFill>
        <p:spPr>
          <a:xfrm>
            <a:off x="1371600" y="1752480"/>
            <a:ext cx="457200" cy="12956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C:\Users\baldick\AppData\Local\Microsoft\Windows\Temporary Internet Files\Content.IE5\9KA9IYP9\MCj02808140000[1].wmf"/>
          <p:cNvPicPr/>
          <p:nvPr/>
        </p:nvPicPr>
        <p:blipFill>
          <a:blip r:embed="rId5"/>
          <a:stretch/>
        </p:blipFill>
        <p:spPr>
          <a:xfrm>
            <a:off x="1371600" y="5562720"/>
            <a:ext cx="457200" cy="1295280"/>
          </a:xfrm>
          <a:prstGeom prst="rect">
            <a:avLst/>
          </a:prstGeom>
          <a:ln w="0">
            <a:noFill/>
          </a:ln>
        </p:spPr>
      </p:pic>
      <p:sp>
        <p:nvSpPr>
          <p:cNvPr id="315" name="Freeform 33"/>
          <p:cNvSpPr/>
          <p:nvPr/>
        </p:nvSpPr>
        <p:spPr>
          <a:xfrm>
            <a:off x="4529160" y="6045120"/>
            <a:ext cx="93600" cy="773280"/>
          </a:xfrm>
          <a:prstGeom prst="pie">
            <a:avLst/>
          </a:prstGeom>
          <a:solidFill>
            <a:srgbClr val="eaec5e"/>
          </a:solidFill>
          <a:ln w="63360">
            <a:solidFill>
              <a:srgbClr val="eaec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reeform 34"/>
          <p:cNvSpPr/>
          <p:nvPr/>
        </p:nvSpPr>
        <p:spPr>
          <a:xfrm>
            <a:off x="4529160" y="6045120"/>
            <a:ext cx="93600" cy="773280"/>
          </a:xfrm>
          <a:prstGeom prst="pie">
            <a:avLst/>
          </a:prstGeom>
          <a:solidFill>
            <a:srgbClr val="fc0128"/>
          </a:solidFill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35"/>
          <p:cNvSpPr/>
          <p:nvPr/>
        </p:nvSpPr>
        <p:spPr>
          <a:xfrm>
            <a:off x="4549680" y="5875200"/>
            <a:ext cx="181080" cy="20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36"/>
          <p:cNvSpPr/>
          <p:nvPr/>
        </p:nvSpPr>
        <p:spPr>
          <a:xfrm>
            <a:off x="4589640" y="5950080"/>
            <a:ext cx="50760" cy="830160"/>
          </a:xfrm>
          <a:prstGeom prst="pie">
            <a:avLst/>
          </a:prstGeom>
          <a:solidFill>
            <a:srgbClr val="fc0128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Freeform 37"/>
          <p:cNvSpPr/>
          <p:nvPr/>
        </p:nvSpPr>
        <p:spPr>
          <a:xfrm>
            <a:off x="4548240" y="5905440"/>
            <a:ext cx="204840" cy="52560"/>
          </a:xfrm>
          <a:prstGeom prst="pie">
            <a:avLst/>
          </a:prstGeom>
          <a:solidFill>
            <a:srgbClr val="c2d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reeform 38"/>
          <p:cNvSpPr/>
          <p:nvPr/>
        </p:nvSpPr>
        <p:spPr>
          <a:xfrm>
            <a:off x="4370400" y="5916600"/>
            <a:ext cx="160200" cy="419040"/>
          </a:xfrm>
          <a:prstGeom prst="pie">
            <a:avLst/>
          </a:pr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39"/>
          <p:cNvSpPr/>
          <p:nvPr/>
        </p:nvSpPr>
        <p:spPr>
          <a:xfrm>
            <a:off x="4648320" y="5943600"/>
            <a:ext cx="38160" cy="506520"/>
          </a:xfrm>
          <a:prstGeom prst="pie">
            <a:avLst/>
          </a:prstGeom>
          <a:solidFill>
            <a:srgbClr val="fc0128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40"/>
          <p:cNvSpPr/>
          <p:nvPr/>
        </p:nvSpPr>
        <p:spPr>
          <a:xfrm>
            <a:off x="4545000" y="5913360"/>
            <a:ext cx="217440" cy="54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41"/>
          <p:cNvSpPr/>
          <p:nvPr/>
        </p:nvSpPr>
        <p:spPr>
          <a:xfrm>
            <a:off x="4629240" y="6504120"/>
            <a:ext cx="30240" cy="304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42"/>
          <p:cNvSpPr/>
          <p:nvPr/>
        </p:nvSpPr>
        <p:spPr>
          <a:xfrm>
            <a:off x="4383000" y="5921280"/>
            <a:ext cx="154080" cy="416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43"/>
          <p:cNvSpPr/>
          <p:nvPr/>
        </p:nvSpPr>
        <p:spPr>
          <a:xfrm>
            <a:off x="4503600" y="5867280"/>
            <a:ext cx="49320" cy="69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reeform 44"/>
          <p:cNvSpPr/>
          <p:nvPr/>
        </p:nvSpPr>
        <p:spPr>
          <a:xfrm>
            <a:off x="1617840" y="2139840"/>
            <a:ext cx="50760" cy="830520"/>
          </a:xfrm>
          <a:prstGeom prst="pie">
            <a:avLst/>
          </a:prstGeom>
          <a:solidFill>
            <a:srgbClr val="99cc00"/>
          </a:solidFill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reeform 45"/>
          <p:cNvSpPr/>
          <p:nvPr/>
        </p:nvSpPr>
        <p:spPr>
          <a:xfrm>
            <a:off x="1557360" y="4216320"/>
            <a:ext cx="93600" cy="773280"/>
          </a:xfrm>
          <a:prstGeom prst="pie">
            <a:avLst/>
          </a:prstGeom>
          <a:solidFill>
            <a:srgbClr val="99cc00"/>
          </a:solidFill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46"/>
          <p:cNvSpPr/>
          <p:nvPr/>
        </p:nvSpPr>
        <p:spPr>
          <a:xfrm>
            <a:off x="1557360" y="6045120"/>
            <a:ext cx="93600" cy="773280"/>
          </a:xfrm>
          <a:prstGeom prst="pie">
            <a:avLst/>
          </a:prstGeom>
          <a:solidFill>
            <a:srgbClr val="99cc00"/>
          </a:solidFill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47"/>
          <p:cNvSpPr/>
          <p:nvPr/>
        </p:nvSpPr>
        <p:spPr>
          <a:xfrm>
            <a:off x="7086600" y="4038480"/>
            <a:ext cx="609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48"/>
          <p:cNvSpPr/>
          <p:nvPr/>
        </p:nvSpPr>
        <p:spPr>
          <a:xfrm>
            <a:off x="5105520" y="4038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49"/>
          <p:cNvSpPr/>
          <p:nvPr/>
        </p:nvSpPr>
        <p:spPr>
          <a:xfrm>
            <a:off x="2438280" y="335268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50"/>
          <p:cNvSpPr/>
          <p:nvPr/>
        </p:nvSpPr>
        <p:spPr>
          <a:xfrm flipV="1">
            <a:off x="2666880" y="434304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51"/>
          <p:cNvSpPr/>
          <p:nvPr/>
        </p:nvSpPr>
        <p:spPr>
          <a:xfrm flipV="1">
            <a:off x="2743200" y="5029200"/>
            <a:ext cx="3049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54"/>
          <p:cNvSpPr/>
          <p:nvPr/>
        </p:nvSpPr>
        <p:spPr>
          <a:xfrm flipV="1">
            <a:off x="5257800" y="518148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55"/>
          <p:cNvSpPr/>
          <p:nvPr/>
        </p:nvSpPr>
        <p:spPr>
          <a:xfrm>
            <a:off x="4952880" y="3200400"/>
            <a:ext cx="6858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56"/>
          <p:cNvSpPr/>
          <p:nvPr/>
        </p:nvSpPr>
        <p:spPr>
          <a:xfrm flipH="1">
            <a:off x="8077320" y="32004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1d58"/>
                </a:solidFill>
                <a:latin typeface="Times New Roman"/>
              </a:rPr>
              <a:t>Prices for 1500 MW demand,</a:t>
            </a:r>
            <a:br>
              <a:rPr sz="4000"/>
            </a:br>
            <a:r>
              <a:rPr b="0" lang="en-US" sz="4000" spc="-1" strike="noStrike">
                <a:solidFill>
                  <a:srgbClr val="081d58"/>
                </a:solidFill>
                <a:latin typeface="Times New Roman"/>
              </a:rPr>
              <a:t>limited transmission capacity.</a:t>
            </a:r>
            <a:endParaRPr b="0" lang="en-US" sz="4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st accepted offer price was $100/MWh from “gray” thermal generator at bus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” wind fully dispatched at bus 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te” thermal generator at bus W not fully dispatch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n” wind at bus M not fully dispatch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1d58"/>
                </a:solidFill>
                <a:latin typeface="Times New Roman"/>
              </a:rPr>
              <a:t>Prices for 1500 MW demand,</a:t>
            </a:r>
            <a:br>
              <a:rPr sz="4000"/>
            </a:br>
            <a:r>
              <a:rPr b="0" lang="en-US" sz="4000" spc="-1" strike="noStrike">
                <a:solidFill>
                  <a:srgbClr val="081d58"/>
                </a:solidFill>
                <a:latin typeface="Times New Roman"/>
              </a:rPr>
              <a:t>limited transmission capacity.</a:t>
            </a:r>
            <a:endParaRPr b="0" lang="en-US" sz="4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LMP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eet an additional MW of demand at N would dispatch an additional MW of $100/MWh “gray” thermal generation, so LM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$100/MWh at 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eet an additional MW of demand at W would dispatch an additional MW of $50/MWh “white” thermal generation, so LM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$50/MWh at W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eet an additional MW of demand at M would dispatch an additional MW of $20/MWh “green” wind generation, so LM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$20/MWh at 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n” wind paid $20/MWh, “red” wind paid $50/MW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6108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1d58"/>
                </a:solidFill>
                <a:latin typeface="Times New Roman"/>
              </a:rPr>
              <a:t>Dispatch and prices for 1500 MW demand, limited transmission capacity.</a:t>
            </a:r>
            <a:endParaRPr b="0" lang="en-US" sz="4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42" name="Line 5"/>
          <p:cNvSpPr/>
          <p:nvPr/>
        </p:nvSpPr>
        <p:spPr>
          <a:xfrm>
            <a:off x="3657600" y="3657600"/>
            <a:ext cx="0" cy="82224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6"/>
          <p:cNvSpPr/>
          <p:nvPr/>
        </p:nvSpPr>
        <p:spPr>
          <a:xfrm>
            <a:off x="5943600" y="3581280"/>
            <a:ext cx="0" cy="91440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6476040" y="5334120"/>
            <a:ext cx="15879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00 M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an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00/MW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1"/>
          <p:cNvSpPr/>
          <p:nvPr/>
        </p:nvSpPr>
        <p:spPr>
          <a:xfrm>
            <a:off x="2590920" y="1600200"/>
            <a:ext cx="18288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at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0 MW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$50/MW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6"/>
          <p:cNvSpPr/>
          <p:nvPr/>
        </p:nvSpPr>
        <p:spPr>
          <a:xfrm>
            <a:off x="7848720" y="3581280"/>
            <a:ext cx="0" cy="91440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Picture 7" descr="C:\Users\baldick\AppData\Local\Microsoft\Windows\Temporary Internet Files\Content.IE5\UK5BVT5P\MCj04348070000[1].png"/>
          <p:cNvPicPr/>
          <p:nvPr/>
        </p:nvPicPr>
        <p:blipFill>
          <a:blip r:embed="rId1"/>
          <a:stretch/>
        </p:blipFill>
        <p:spPr>
          <a:xfrm>
            <a:off x="7848720" y="51814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348" name="Freeform 4"/>
          <p:cNvSpPr/>
          <p:nvPr/>
        </p:nvSpPr>
        <p:spPr>
          <a:xfrm>
            <a:off x="4419720" y="1981080"/>
            <a:ext cx="687240" cy="114480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reeform 4"/>
          <p:cNvSpPr/>
          <p:nvPr/>
        </p:nvSpPr>
        <p:spPr>
          <a:xfrm>
            <a:off x="8229600" y="1905120"/>
            <a:ext cx="687240" cy="1144440"/>
          </a:xfrm>
          <a:prstGeom prst="pie">
            <a:avLst/>
          </a:prstGeom>
          <a:solidFill>
            <a:srgbClr val="c0c0c0"/>
          </a:solidFill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1"/>
          <p:cNvSpPr/>
          <p:nvPr/>
        </p:nvSpPr>
        <p:spPr>
          <a:xfrm>
            <a:off x="5257800" y="1523880"/>
            <a:ext cx="29718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at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buClr>
                <a:srgbClr val="000000"/>
              </a:buClr>
              <a:buFont typeface="Times New Roman"/>
              <a:buAutoNum type="arabicPlain" startAt="5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00/MW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5" descr="C:\Users\baldick\AppData\Local\Microsoft\Windows\Temporary Internet Files\Content.IE5\9KA9IYP9\MCj02808140000[1].wmf"/>
          <p:cNvPicPr/>
          <p:nvPr/>
        </p:nvPicPr>
        <p:blipFill>
          <a:blip r:embed="rId2"/>
          <a:stretch/>
        </p:blipFill>
        <p:spPr>
          <a:xfrm>
            <a:off x="1371600" y="3733920"/>
            <a:ext cx="457200" cy="129528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13"/>
          <p:cNvSpPr/>
          <p:nvPr/>
        </p:nvSpPr>
        <p:spPr>
          <a:xfrm>
            <a:off x="2971800" y="5334120"/>
            <a:ext cx="14619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MW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$50/MW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Picture 5" descr="C:\Users\baldick\AppData\Local\Microsoft\Windows\Temporary Internet Files\Content.IE5\9KA9IYP9\MCj02808140000[1].wmf"/>
          <p:cNvPicPr/>
          <p:nvPr/>
        </p:nvPicPr>
        <p:blipFill>
          <a:blip r:embed="rId3"/>
          <a:stretch/>
        </p:blipFill>
        <p:spPr>
          <a:xfrm>
            <a:off x="4343400" y="5562720"/>
            <a:ext cx="457200" cy="1295280"/>
          </a:xfrm>
          <a:prstGeom prst="rect">
            <a:avLst/>
          </a:prstGeom>
          <a:ln w="0">
            <a:noFill/>
          </a:ln>
        </p:spPr>
      </p:pic>
      <p:sp>
        <p:nvSpPr>
          <p:cNvPr id="354" name="Straight Connector 37"/>
          <p:cNvSpPr/>
          <p:nvPr/>
        </p:nvSpPr>
        <p:spPr>
          <a:xfrm>
            <a:off x="1600200" y="2971800"/>
            <a:ext cx="2057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traight Connector 41"/>
          <p:cNvSpPr/>
          <p:nvPr/>
        </p:nvSpPr>
        <p:spPr>
          <a:xfrm flipV="1">
            <a:off x="1599480" y="4038480"/>
            <a:ext cx="205740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Straight Connector 43"/>
          <p:cNvSpPr/>
          <p:nvPr/>
        </p:nvSpPr>
        <p:spPr>
          <a:xfrm flipV="1">
            <a:off x="1599480" y="4266720"/>
            <a:ext cx="2057400" cy="259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traight Connector 45"/>
          <p:cNvSpPr/>
          <p:nvPr/>
        </p:nvSpPr>
        <p:spPr>
          <a:xfrm flipV="1">
            <a:off x="4572000" y="4343040"/>
            <a:ext cx="137160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Straight Connector 47"/>
          <p:cNvSpPr/>
          <p:nvPr/>
        </p:nvSpPr>
        <p:spPr>
          <a:xfrm>
            <a:off x="4800600" y="3124080"/>
            <a:ext cx="11430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Straight Connector 49"/>
          <p:cNvSpPr/>
          <p:nvPr/>
        </p:nvSpPr>
        <p:spPr>
          <a:xfrm flipV="1">
            <a:off x="7848000" y="304776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Straight Arrow Connector 51"/>
          <p:cNvCxnSpPr/>
          <p:nvPr/>
        </p:nvCxnSpPr>
        <p:spPr>
          <a:xfrm>
            <a:off x="7847640" y="4343400"/>
            <a:ext cx="610200" cy="991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1" name="Straight Connector 53"/>
          <p:cNvSpPr/>
          <p:nvPr/>
        </p:nvSpPr>
        <p:spPr>
          <a:xfrm>
            <a:off x="3657600" y="4038480"/>
            <a:ext cx="228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Straight Connector 55"/>
          <p:cNvSpPr/>
          <p:nvPr/>
        </p:nvSpPr>
        <p:spPr>
          <a:xfrm>
            <a:off x="5943600" y="4038480"/>
            <a:ext cx="1905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Box 32"/>
          <p:cNvSpPr/>
          <p:nvPr/>
        </p:nvSpPr>
        <p:spPr>
          <a:xfrm>
            <a:off x="3737160" y="41911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Box 33"/>
          <p:cNvSpPr/>
          <p:nvPr/>
        </p:nvSpPr>
        <p:spPr>
          <a:xfrm>
            <a:off x="5946480" y="41911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Box 34"/>
          <p:cNvSpPr/>
          <p:nvPr/>
        </p:nvSpPr>
        <p:spPr>
          <a:xfrm>
            <a:off x="8004600" y="380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Box 35"/>
          <p:cNvSpPr/>
          <p:nvPr/>
        </p:nvSpPr>
        <p:spPr>
          <a:xfrm>
            <a:off x="4278240" y="3613320"/>
            <a:ext cx="149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M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Box 36"/>
          <p:cNvSpPr/>
          <p:nvPr/>
        </p:nvSpPr>
        <p:spPr>
          <a:xfrm>
            <a:off x="6271920" y="3613320"/>
            <a:ext cx="149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3"/>
          <p:cNvSpPr/>
          <p:nvPr/>
        </p:nvSpPr>
        <p:spPr>
          <a:xfrm>
            <a:off x="0" y="2666880"/>
            <a:ext cx="14619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wind turbin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$20/MW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Picture 5" descr="C:\Users\baldick\AppData\Local\Microsoft\Windows\Temporary Internet Files\Content.IE5\9KA9IYP9\MCj02808140000[1].wmf"/>
          <p:cNvPicPr/>
          <p:nvPr/>
        </p:nvPicPr>
        <p:blipFill>
          <a:blip r:embed="rId4"/>
          <a:stretch/>
        </p:blipFill>
        <p:spPr>
          <a:xfrm>
            <a:off x="1371600" y="1752480"/>
            <a:ext cx="457200" cy="12956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5" descr="C:\Users\baldick\AppData\Local\Microsoft\Windows\Temporary Internet Files\Content.IE5\9KA9IYP9\MCj02808140000[1].wmf"/>
          <p:cNvPicPr/>
          <p:nvPr/>
        </p:nvPicPr>
        <p:blipFill>
          <a:blip r:embed="rId5"/>
          <a:stretch/>
        </p:blipFill>
        <p:spPr>
          <a:xfrm>
            <a:off x="1371600" y="5562720"/>
            <a:ext cx="457200" cy="1295280"/>
          </a:xfrm>
          <a:prstGeom prst="rect">
            <a:avLst/>
          </a:prstGeom>
          <a:ln w="0">
            <a:noFill/>
          </a:ln>
        </p:spPr>
      </p:pic>
      <p:sp>
        <p:nvSpPr>
          <p:cNvPr id="371" name="Freeform 33"/>
          <p:cNvSpPr/>
          <p:nvPr/>
        </p:nvSpPr>
        <p:spPr>
          <a:xfrm>
            <a:off x="4529160" y="6045120"/>
            <a:ext cx="93600" cy="773280"/>
          </a:xfrm>
          <a:prstGeom prst="pie">
            <a:avLst/>
          </a:prstGeom>
          <a:solidFill>
            <a:srgbClr val="eaec5e"/>
          </a:solidFill>
          <a:ln w="63360">
            <a:solidFill>
              <a:srgbClr val="eaec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Freeform 34"/>
          <p:cNvSpPr/>
          <p:nvPr/>
        </p:nvSpPr>
        <p:spPr>
          <a:xfrm>
            <a:off x="4529160" y="6045120"/>
            <a:ext cx="93600" cy="773280"/>
          </a:xfrm>
          <a:prstGeom prst="pie">
            <a:avLst/>
          </a:prstGeom>
          <a:solidFill>
            <a:srgbClr val="fc0128"/>
          </a:solidFill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Freeform 35"/>
          <p:cNvSpPr/>
          <p:nvPr/>
        </p:nvSpPr>
        <p:spPr>
          <a:xfrm>
            <a:off x="4549680" y="5875200"/>
            <a:ext cx="181080" cy="20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Freeform 36"/>
          <p:cNvSpPr/>
          <p:nvPr/>
        </p:nvSpPr>
        <p:spPr>
          <a:xfrm>
            <a:off x="4589640" y="5950080"/>
            <a:ext cx="50760" cy="830160"/>
          </a:xfrm>
          <a:prstGeom prst="pie">
            <a:avLst/>
          </a:prstGeom>
          <a:solidFill>
            <a:srgbClr val="fc0128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reeform 37"/>
          <p:cNvSpPr/>
          <p:nvPr/>
        </p:nvSpPr>
        <p:spPr>
          <a:xfrm>
            <a:off x="4548240" y="5905440"/>
            <a:ext cx="204840" cy="52560"/>
          </a:xfrm>
          <a:prstGeom prst="pie">
            <a:avLst/>
          </a:prstGeom>
          <a:solidFill>
            <a:srgbClr val="c2d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Freeform 38"/>
          <p:cNvSpPr/>
          <p:nvPr/>
        </p:nvSpPr>
        <p:spPr>
          <a:xfrm>
            <a:off x="4370400" y="5916600"/>
            <a:ext cx="160200" cy="419040"/>
          </a:xfrm>
          <a:prstGeom prst="pie">
            <a:avLst/>
          </a:pr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reeform 39"/>
          <p:cNvSpPr/>
          <p:nvPr/>
        </p:nvSpPr>
        <p:spPr>
          <a:xfrm>
            <a:off x="4648320" y="5943600"/>
            <a:ext cx="38160" cy="506520"/>
          </a:xfrm>
          <a:prstGeom prst="pie">
            <a:avLst/>
          </a:prstGeom>
          <a:solidFill>
            <a:srgbClr val="fc0128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Freeform 40"/>
          <p:cNvSpPr/>
          <p:nvPr/>
        </p:nvSpPr>
        <p:spPr>
          <a:xfrm>
            <a:off x="4545000" y="5913360"/>
            <a:ext cx="217440" cy="54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Freeform 41"/>
          <p:cNvSpPr/>
          <p:nvPr/>
        </p:nvSpPr>
        <p:spPr>
          <a:xfrm>
            <a:off x="4629240" y="6504120"/>
            <a:ext cx="30240" cy="304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Freeform 42"/>
          <p:cNvSpPr/>
          <p:nvPr/>
        </p:nvSpPr>
        <p:spPr>
          <a:xfrm>
            <a:off x="4383000" y="5921280"/>
            <a:ext cx="154080" cy="416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Freeform 43"/>
          <p:cNvSpPr/>
          <p:nvPr/>
        </p:nvSpPr>
        <p:spPr>
          <a:xfrm>
            <a:off x="4503600" y="5867280"/>
            <a:ext cx="49320" cy="69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Freeform 44"/>
          <p:cNvSpPr/>
          <p:nvPr/>
        </p:nvSpPr>
        <p:spPr>
          <a:xfrm>
            <a:off x="1617840" y="2139840"/>
            <a:ext cx="50760" cy="830520"/>
          </a:xfrm>
          <a:prstGeom prst="pie">
            <a:avLst/>
          </a:prstGeom>
          <a:solidFill>
            <a:srgbClr val="99cc00"/>
          </a:solidFill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Freeform 45"/>
          <p:cNvSpPr/>
          <p:nvPr/>
        </p:nvSpPr>
        <p:spPr>
          <a:xfrm>
            <a:off x="1557360" y="4216320"/>
            <a:ext cx="93600" cy="773280"/>
          </a:xfrm>
          <a:prstGeom prst="pie">
            <a:avLst/>
          </a:prstGeom>
          <a:solidFill>
            <a:srgbClr val="99cc00"/>
          </a:solidFill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Freeform 46"/>
          <p:cNvSpPr/>
          <p:nvPr/>
        </p:nvSpPr>
        <p:spPr>
          <a:xfrm>
            <a:off x="1557360" y="6045120"/>
            <a:ext cx="93600" cy="773280"/>
          </a:xfrm>
          <a:prstGeom prst="pie">
            <a:avLst/>
          </a:prstGeom>
          <a:solidFill>
            <a:srgbClr val="99cc00"/>
          </a:solidFill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47"/>
          <p:cNvSpPr/>
          <p:nvPr/>
        </p:nvSpPr>
        <p:spPr>
          <a:xfrm>
            <a:off x="7086600" y="4038480"/>
            <a:ext cx="609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48"/>
          <p:cNvSpPr/>
          <p:nvPr/>
        </p:nvSpPr>
        <p:spPr>
          <a:xfrm>
            <a:off x="5105520" y="4038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49"/>
          <p:cNvSpPr/>
          <p:nvPr/>
        </p:nvSpPr>
        <p:spPr>
          <a:xfrm>
            <a:off x="2438280" y="335268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50"/>
          <p:cNvSpPr/>
          <p:nvPr/>
        </p:nvSpPr>
        <p:spPr>
          <a:xfrm flipV="1">
            <a:off x="2666880" y="434304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51"/>
          <p:cNvSpPr/>
          <p:nvPr/>
        </p:nvSpPr>
        <p:spPr>
          <a:xfrm flipV="1">
            <a:off x="2743200" y="5029200"/>
            <a:ext cx="3049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52"/>
          <p:cNvSpPr/>
          <p:nvPr/>
        </p:nvSpPr>
        <p:spPr>
          <a:xfrm flipV="1">
            <a:off x="5257800" y="518148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53"/>
          <p:cNvSpPr/>
          <p:nvPr/>
        </p:nvSpPr>
        <p:spPr>
          <a:xfrm>
            <a:off x="4952880" y="3200400"/>
            <a:ext cx="6858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54"/>
          <p:cNvSpPr/>
          <p:nvPr/>
        </p:nvSpPr>
        <p:spPr>
          <a:xfrm flipH="1">
            <a:off x="8077320" y="32004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How do PTCs and sales of RECs affect this?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9907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deral production tax credits (PTCs) and state renewable energy credits (RECs) only accrue when actually genera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f one of the “green” wind farms at M wanted to generate 50 M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get preference in the dispatch process, wind farm must reduce its offer pri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gnoring “dispatch priority,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atch priority in ERCOT will affect issues in Texas when final rule is deci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Abstract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jurisdictions are greatly increasing the amount of wind production, with the expectation that increasing renewables will reduce greenhouse emissions.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 the interaction of increasing wind, transmission constraints, production tax credits, wind and demand correlation, intermittency, and electricity market prices using the particular example of the ERCOT mar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How do PTCs and sales of RECs affect this?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907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one of the “green” wind farms at M dropped its offer below $20/MWh then the lowest price offer would be fully dispatch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maybe the other “green” wind farms want to be fully dispatched as wel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low will the “green” wind farms g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requires a model of competitive interaction, which has a host of assumption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we will estimate a bound on LM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How do PTCs and sales of RECs affect this?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80880" y="16761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the total value of PTCs and RECs etc is $35/MW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the variable operation and maintenance costs of the wind farm are $5/MW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quantit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old by wind farm at price LM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 operating profit will b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M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$5/MWh + $35/MWh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positive if LM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 $5/MW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$35/MW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How do PTCs and sales of RECs affect this?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limited transmission, LM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 M is set by the highest accepted wind offer at 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intense competition, wind farms may undercut each other, decreasing highest accepted offer pr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M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uld go as low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in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$30/MWh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s with recent experience in ERCOT balancing market in West z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s transfer from Federal taxpayers to market for taking wind power at unfavor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c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"/>
          <p:cNvGrpSpPr/>
          <p:nvPr/>
        </p:nvGrpSpPr>
        <p:grpSpPr>
          <a:xfrm>
            <a:off x="0" y="1371600"/>
            <a:ext cx="9143640" cy="5486040"/>
            <a:chOff x="0" y="1371600"/>
            <a:chExt cx="9143640" cy="5486040"/>
          </a:xfrm>
        </p:grpSpPr>
        <p:sp>
          <p:nvSpPr>
            <p:cNvPr id="402" name=""/>
            <p:cNvSpPr/>
            <p:nvPr/>
          </p:nvSpPr>
          <p:spPr>
            <a:xfrm>
              <a:off x="0" y="1371600"/>
              <a:ext cx="9143640" cy="548604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983520" y="2395800"/>
              <a:ext cx="5396400" cy="4110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83520" y="6506640"/>
              <a:ext cx="5396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983520" y="5962320"/>
              <a:ext cx="5396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83520" y="5402160"/>
              <a:ext cx="5396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83520" y="4857840"/>
              <a:ext cx="5396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83520" y="4313880"/>
              <a:ext cx="5396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83520" y="3771360"/>
              <a:ext cx="5396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983520" y="3210840"/>
              <a:ext cx="5396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983520" y="2667240"/>
              <a:ext cx="5396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983520" y="2395800"/>
              <a:ext cx="5396400" cy="41104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983520" y="2395800"/>
              <a:ext cx="1440" cy="411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925560" y="6506640"/>
              <a:ext cx="57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925560" y="5962320"/>
              <a:ext cx="57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25560" y="5402160"/>
              <a:ext cx="57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925560" y="4857840"/>
              <a:ext cx="57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25560" y="4313880"/>
              <a:ext cx="57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925560" y="3771360"/>
              <a:ext cx="57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25560" y="3210840"/>
              <a:ext cx="57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925560" y="2667240"/>
              <a:ext cx="57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83520" y="5131080"/>
              <a:ext cx="5396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98352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104184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109980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115668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121464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125856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131616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137448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143280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48932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54728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160560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166356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172188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176544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182196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187992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193824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199656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205452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211248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216936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221292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227124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232920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238716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244548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250380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256032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261828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267624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271980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277812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283644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289260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95092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300924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306756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312552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318348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322560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328356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334188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340020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345816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351612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357300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363096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368892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373248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379080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84912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390564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396396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402192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407988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413820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418176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423864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429624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435456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441288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447120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452880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458568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464364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468720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474552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480384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486180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491976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497664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503496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509256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15088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519444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525276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530928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536724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542556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548352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554184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560016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564228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569988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575820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581652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587484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593244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598932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604728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610560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614916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620712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626544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6321960" y="513072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6380280" y="513072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012680" y="4010040"/>
              <a:ext cx="57960" cy="143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071000" y="4154040"/>
              <a:ext cx="57960" cy="272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128960" y="4426560"/>
              <a:ext cx="56160" cy="79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1185480" y="4233600"/>
              <a:ext cx="43560" cy="272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229040" y="4233960"/>
              <a:ext cx="57960" cy="324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287360" y="4266360"/>
              <a:ext cx="57960" cy="79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345680" y="4346640"/>
              <a:ext cx="57600" cy="207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403280" y="4554000"/>
              <a:ext cx="57960" cy="48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461600" y="4603320"/>
              <a:ext cx="565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518480" y="4603320"/>
              <a:ext cx="576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576440" y="4603320"/>
              <a:ext cx="579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34400" y="4603320"/>
              <a:ext cx="57960" cy="30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692720" y="4633920"/>
              <a:ext cx="435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36280" y="4633920"/>
              <a:ext cx="57960" cy="48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94600" y="4683240"/>
              <a:ext cx="56160" cy="144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1851120" y="4666680"/>
              <a:ext cx="57960" cy="30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1909440" y="4650120"/>
              <a:ext cx="57600" cy="16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1967040" y="4633560"/>
              <a:ext cx="57960" cy="16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025360" y="4633920"/>
              <a:ext cx="579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083680" y="4633920"/>
              <a:ext cx="579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2142000" y="4474080"/>
              <a:ext cx="56160" cy="159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198160" y="4474080"/>
              <a:ext cx="43560" cy="143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241720" y="4617720"/>
              <a:ext cx="57960" cy="79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300040" y="4697640"/>
              <a:ext cx="57960" cy="65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2358360" y="4730040"/>
              <a:ext cx="57600" cy="32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416320" y="4730400"/>
              <a:ext cx="579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2474280" y="4713840"/>
              <a:ext cx="56160" cy="16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530800" y="4714200"/>
              <a:ext cx="579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589120" y="4714200"/>
              <a:ext cx="579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647440" y="4714200"/>
              <a:ext cx="579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2705760" y="4666320"/>
              <a:ext cx="43560" cy="47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2749320" y="4602960"/>
              <a:ext cx="57960" cy="63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2807280" y="4537800"/>
              <a:ext cx="56160" cy="65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863800" y="4410360"/>
              <a:ext cx="57960" cy="127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2922120" y="4233600"/>
              <a:ext cx="57600" cy="176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980080" y="4233960"/>
              <a:ext cx="57960" cy="324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3038040" y="4186440"/>
              <a:ext cx="57960" cy="79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3096360" y="3994920"/>
              <a:ext cx="57960" cy="191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54680" y="3995280"/>
              <a:ext cx="435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198240" y="3995280"/>
              <a:ext cx="56160" cy="191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3254760" y="4075200"/>
              <a:ext cx="57960" cy="110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3312720" y="3946320"/>
              <a:ext cx="57960" cy="128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3371040" y="3915360"/>
              <a:ext cx="57600" cy="30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429000" y="3915360"/>
              <a:ext cx="57960" cy="318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3487320" y="4138560"/>
              <a:ext cx="57960" cy="9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3545640" y="4089960"/>
              <a:ext cx="56160" cy="48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601800" y="4090320"/>
              <a:ext cx="57960" cy="324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660120" y="4122720"/>
              <a:ext cx="43560" cy="79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703680" y="4202640"/>
              <a:ext cx="57960" cy="16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762000" y="4219200"/>
              <a:ext cx="57600" cy="191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3819960" y="4346280"/>
              <a:ext cx="57960" cy="63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3877920" y="4298760"/>
              <a:ext cx="56520" cy="47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934800" y="4299120"/>
              <a:ext cx="57600" cy="14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92760" y="4313880"/>
              <a:ext cx="579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051080" y="4313880"/>
              <a:ext cx="57960" cy="48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109040" y="4218840"/>
              <a:ext cx="57960" cy="143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167360" y="4219200"/>
              <a:ext cx="43560" cy="127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210920" y="4346640"/>
              <a:ext cx="561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267440" y="4346640"/>
              <a:ext cx="57960" cy="47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4325760" y="4378680"/>
              <a:ext cx="57600" cy="14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83720" y="4379040"/>
              <a:ext cx="57960" cy="207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441680" y="4586760"/>
              <a:ext cx="579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500000" y="4586760"/>
              <a:ext cx="579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558320" y="4586760"/>
              <a:ext cx="56160" cy="47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614840" y="4633920"/>
              <a:ext cx="435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4658400" y="4569840"/>
              <a:ext cx="57960" cy="63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716360" y="4570200"/>
              <a:ext cx="57960" cy="16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774680" y="4586760"/>
              <a:ext cx="57600" cy="30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4832640" y="4603320"/>
              <a:ext cx="57960" cy="144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890960" y="4603320"/>
              <a:ext cx="56160" cy="30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947120" y="4633920"/>
              <a:ext cx="57960" cy="16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5005440" y="4633560"/>
              <a:ext cx="57960" cy="16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5063760" y="4602960"/>
              <a:ext cx="57960" cy="30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5122080" y="4554000"/>
              <a:ext cx="43560" cy="48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165640" y="4457160"/>
              <a:ext cx="57600" cy="9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223600" y="4457520"/>
              <a:ext cx="56520" cy="79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5280120" y="4379040"/>
              <a:ext cx="57960" cy="1584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5338440" y="4329720"/>
              <a:ext cx="57600" cy="48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96400" y="4330080"/>
              <a:ext cx="57960" cy="48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454720" y="4379040"/>
              <a:ext cx="579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12680" y="4379040"/>
              <a:ext cx="57960" cy="223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571000" y="4603320"/>
              <a:ext cx="56160" cy="30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How do PTCs and sales of RECs affect this?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066680" y="2397240"/>
            <a:ext cx="5246640" cy="3622680"/>
            <a:chOff x="1066680" y="2397240"/>
            <a:chExt cx="5246640" cy="3622680"/>
          </a:xfrm>
        </p:grpSpPr>
        <p:sp>
          <p:nvSpPr>
            <p:cNvPr id="604" name=""/>
            <p:cNvSpPr/>
            <p:nvPr/>
          </p:nvSpPr>
          <p:spPr>
            <a:xfrm>
              <a:off x="5602320" y="4619520"/>
              <a:ext cx="42840" cy="18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5645160" y="4371840"/>
              <a:ext cx="57240" cy="24768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02400" y="4371840"/>
              <a:ext cx="56880" cy="144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59280" y="4386240"/>
              <a:ext cx="57240" cy="10944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816520" y="4495680"/>
              <a:ext cx="57240" cy="7776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5873760" y="4278240"/>
              <a:ext cx="55440" cy="2952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929200" y="4278240"/>
              <a:ext cx="57240" cy="4608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986440" y="4324320"/>
              <a:ext cx="57240" cy="936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43680" y="4417920"/>
              <a:ext cx="57240" cy="15552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6100920" y="4464000"/>
              <a:ext cx="42840" cy="10944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143760" y="4464000"/>
              <a:ext cx="56880" cy="936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200640" y="4557600"/>
              <a:ext cx="57240" cy="6192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257880" y="4619520"/>
              <a:ext cx="55440" cy="7776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120680" y="2397240"/>
              <a:ext cx="3240" cy="186516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123920" y="4262400"/>
              <a:ext cx="57240" cy="158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181160" y="4278240"/>
              <a:ext cx="55440" cy="16992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1236600" y="4386240"/>
              <a:ext cx="42840" cy="6192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279440" y="4386240"/>
              <a:ext cx="57240" cy="158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336680" y="4402080"/>
              <a:ext cx="57240" cy="460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393920" y="4448160"/>
              <a:ext cx="56880" cy="7776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450800" y="4525920"/>
              <a:ext cx="57240" cy="17136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1508040" y="4651200"/>
              <a:ext cx="55800" cy="460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1563840" y="4511520"/>
              <a:ext cx="56880" cy="1396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1620720" y="4495680"/>
              <a:ext cx="57240" cy="158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677960" y="4495680"/>
              <a:ext cx="57240" cy="2174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35200" y="4713120"/>
              <a:ext cx="42840" cy="180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778040" y="4713120"/>
              <a:ext cx="57240" cy="6192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35280" y="4775040"/>
              <a:ext cx="55440" cy="1620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1890720" y="4745160"/>
              <a:ext cx="57240" cy="460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1947960" y="4729320"/>
              <a:ext cx="56880" cy="158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004840" y="4729320"/>
              <a:ext cx="57240" cy="14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062080" y="4729320"/>
              <a:ext cx="57240" cy="14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19320" y="4729320"/>
              <a:ext cx="57240" cy="14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2176560" y="4589640"/>
              <a:ext cx="55440" cy="1396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232000" y="4589640"/>
              <a:ext cx="42840" cy="1234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274840" y="4713120"/>
              <a:ext cx="57240" cy="7812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332080" y="4791240"/>
              <a:ext cx="57240" cy="4572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2389320" y="4806720"/>
              <a:ext cx="56880" cy="298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446200" y="4807080"/>
              <a:ext cx="57240" cy="140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2503440" y="4790880"/>
              <a:ext cx="55440" cy="298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558880" y="4791240"/>
              <a:ext cx="57240" cy="14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2616120" y="4774680"/>
              <a:ext cx="57240" cy="1620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673360" y="4775040"/>
              <a:ext cx="57240" cy="180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2730600" y="4744800"/>
              <a:ext cx="42840" cy="298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2773440" y="4681080"/>
              <a:ext cx="57240" cy="6372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2830680" y="4635360"/>
              <a:ext cx="55440" cy="460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2886120" y="4511520"/>
              <a:ext cx="57240" cy="1238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2943360" y="4356000"/>
              <a:ext cx="56880" cy="15552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00240" y="4356000"/>
              <a:ext cx="57240" cy="302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3057480" y="4308480"/>
              <a:ext cx="57240" cy="7776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3114720" y="4138560"/>
              <a:ext cx="57240" cy="16992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171960" y="4138560"/>
              <a:ext cx="42840" cy="180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14800" y="4138560"/>
              <a:ext cx="55440" cy="16992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3270240" y="4216320"/>
              <a:ext cx="57240" cy="9216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3327480" y="4091040"/>
              <a:ext cx="57240" cy="1252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3384720" y="4060800"/>
              <a:ext cx="56880" cy="302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441600" y="4060800"/>
              <a:ext cx="57240" cy="16992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3498840" y="4216320"/>
              <a:ext cx="57240" cy="1440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3556080" y="4184640"/>
              <a:ext cx="55440" cy="316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3611520" y="4122720"/>
              <a:ext cx="57240" cy="6192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668760" y="4122720"/>
              <a:ext cx="42840" cy="20160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3711600" y="4294080"/>
              <a:ext cx="57240" cy="302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768840" y="4294080"/>
              <a:ext cx="56880" cy="16992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3825720" y="4448160"/>
              <a:ext cx="57240" cy="158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3882960" y="4356000"/>
              <a:ext cx="55800" cy="9216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938760" y="4356000"/>
              <a:ext cx="56880" cy="158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3995640" y="4308480"/>
              <a:ext cx="57240" cy="6336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052880" y="4308480"/>
              <a:ext cx="57240" cy="1094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4110120" y="4340160"/>
              <a:ext cx="57240" cy="7776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67360" y="4340160"/>
              <a:ext cx="42840" cy="10800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210200" y="4448160"/>
              <a:ext cx="55440" cy="14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265640" y="4448160"/>
              <a:ext cx="57240" cy="4752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4322880" y="4479840"/>
              <a:ext cx="56880" cy="158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4379760" y="4464000"/>
              <a:ext cx="57240" cy="158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37000" y="4464000"/>
              <a:ext cx="57240" cy="180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4240" y="4464000"/>
              <a:ext cx="57240" cy="158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551480" y="4479840"/>
              <a:ext cx="55440" cy="9360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606920" y="4573440"/>
              <a:ext cx="42840" cy="1620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649760" y="4589640"/>
              <a:ext cx="57240" cy="6156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4707000" y="4619520"/>
              <a:ext cx="57240" cy="316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4764240" y="4603680"/>
              <a:ext cx="56880" cy="158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4821120" y="4589280"/>
              <a:ext cx="57240" cy="140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878360" y="4589640"/>
              <a:ext cx="55440" cy="298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33800" y="4619520"/>
              <a:ext cx="57240" cy="158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991040" y="4635360"/>
              <a:ext cx="57240" cy="7776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5048280" y="4681440"/>
              <a:ext cx="57240" cy="316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5105520" y="4635360"/>
              <a:ext cx="42840" cy="460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5148360" y="4511520"/>
              <a:ext cx="56880" cy="1238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205240" y="4511520"/>
              <a:ext cx="55800" cy="1440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5261040" y="4371840"/>
              <a:ext cx="57240" cy="1540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5318280" y="4324320"/>
              <a:ext cx="56880" cy="4752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375160" y="4324320"/>
              <a:ext cx="57240" cy="1094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5432400" y="4371840"/>
              <a:ext cx="57240" cy="6192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489640" y="4371840"/>
              <a:ext cx="57240" cy="21780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546880" y="4589640"/>
              <a:ext cx="55440" cy="298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602320" y="4619520"/>
              <a:ext cx="42840" cy="180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5645160" y="4479840"/>
              <a:ext cx="57240" cy="1396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702400" y="4479840"/>
              <a:ext cx="56880" cy="316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759280" y="4511520"/>
              <a:ext cx="57240" cy="9216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816520" y="4603680"/>
              <a:ext cx="57240" cy="9360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5873760" y="4417920"/>
              <a:ext cx="55440" cy="27936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929200" y="4417920"/>
              <a:ext cx="57240" cy="302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986440" y="4448160"/>
              <a:ext cx="57240" cy="1094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043680" y="4557600"/>
              <a:ext cx="57240" cy="1396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6100920" y="4589280"/>
              <a:ext cx="42840" cy="1076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143760" y="4589640"/>
              <a:ext cx="56880" cy="7776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6200640" y="4635000"/>
              <a:ext cx="57240" cy="320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257880" y="4635360"/>
              <a:ext cx="55440" cy="320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066680" y="5972040"/>
              <a:ext cx="57240" cy="320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123920" y="6004080"/>
              <a:ext cx="57240" cy="140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181160" y="6018120"/>
              <a:ext cx="55440" cy="1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1236600" y="5972040"/>
              <a:ext cx="42840" cy="460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279440" y="5972040"/>
              <a:ext cx="57240" cy="1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336680" y="5972040"/>
              <a:ext cx="57240" cy="158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1393920" y="5972040"/>
              <a:ext cx="56880" cy="158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1450800" y="5956200"/>
              <a:ext cx="57240" cy="158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508040" y="5956200"/>
              <a:ext cx="55800" cy="1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563840" y="5956200"/>
              <a:ext cx="56880" cy="1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20720" y="5956200"/>
              <a:ext cx="57240" cy="1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1677960" y="5738760"/>
              <a:ext cx="57240" cy="2174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735200" y="5738760"/>
              <a:ext cx="42840" cy="316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778040" y="5770440"/>
              <a:ext cx="57240" cy="16992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835280" y="5940360"/>
              <a:ext cx="55440" cy="1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1890720" y="5738760"/>
              <a:ext cx="57240" cy="2016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947960" y="5738760"/>
              <a:ext cx="56880" cy="1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004840" y="5738760"/>
              <a:ext cx="57240" cy="2016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062080" y="5940360"/>
              <a:ext cx="57240" cy="1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119320" y="5940360"/>
              <a:ext cx="57240" cy="158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176560" y="5956200"/>
              <a:ext cx="55440" cy="1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232000" y="5956200"/>
              <a:ext cx="42840" cy="1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74840" y="5956200"/>
              <a:ext cx="57240" cy="1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2332080" y="5940360"/>
              <a:ext cx="57240" cy="158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389320" y="5940360"/>
              <a:ext cx="56880" cy="1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446200" y="5940360"/>
              <a:ext cx="57240" cy="1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2503440" y="5738760"/>
              <a:ext cx="55440" cy="2016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2558880" y="5708520"/>
              <a:ext cx="57240" cy="302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616120" y="5708520"/>
              <a:ext cx="57240" cy="144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2673360" y="5708520"/>
              <a:ext cx="57240" cy="144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730600" y="5708520"/>
              <a:ext cx="42840" cy="1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773440" y="5708520"/>
              <a:ext cx="57240" cy="302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2830680" y="5722920"/>
              <a:ext cx="55440" cy="158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886120" y="5722920"/>
              <a:ext cx="57240" cy="158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943360" y="5738760"/>
              <a:ext cx="56880" cy="1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3000240" y="5692680"/>
              <a:ext cx="57240" cy="460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057480" y="5692680"/>
              <a:ext cx="57240" cy="158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3114720" y="5692680"/>
              <a:ext cx="57240" cy="158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171960" y="5692680"/>
              <a:ext cx="42840" cy="158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3214800" y="5692680"/>
              <a:ext cx="55440" cy="158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270240" y="5692680"/>
              <a:ext cx="57240" cy="158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3327480" y="5692680"/>
              <a:ext cx="57240" cy="158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384720" y="5692680"/>
              <a:ext cx="56880" cy="1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3441600" y="4230360"/>
              <a:ext cx="57240" cy="146196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498840" y="4230720"/>
              <a:ext cx="57240" cy="9334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556080" y="5164200"/>
              <a:ext cx="55440" cy="14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3611520" y="4122360"/>
              <a:ext cx="57240" cy="10414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668760" y="4122720"/>
              <a:ext cx="42840" cy="156996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3711600" y="5164200"/>
              <a:ext cx="57240" cy="5284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768840" y="5164200"/>
              <a:ext cx="56880" cy="14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825720" y="5164200"/>
              <a:ext cx="57240" cy="5284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3882960" y="5164200"/>
              <a:ext cx="55800" cy="5284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38760" y="5164200"/>
              <a:ext cx="56880" cy="14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3995640" y="4308120"/>
              <a:ext cx="57240" cy="85572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052880" y="4308480"/>
              <a:ext cx="57240" cy="85572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110120" y="5164200"/>
              <a:ext cx="57240" cy="5284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167360" y="5692680"/>
              <a:ext cx="42840" cy="1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210200" y="5692680"/>
              <a:ext cx="55440" cy="460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4265640" y="5692680"/>
              <a:ext cx="57240" cy="460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322880" y="5692680"/>
              <a:ext cx="56880" cy="1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379760" y="5692680"/>
              <a:ext cx="57240" cy="460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4437000" y="5692680"/>
              <a:ext cx="57240" cy="460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94240" y="5692680"/>
              <a:ext cx="57240" cy="158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4551480" y="5164200"/>
              <a:ext cx="55440" cy="54432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606920" y="5164200"/>
              <a:ext cx="42840" cy="55872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649760" y="5722920"/>
              <a:ext cx="57240" cy="14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4707000" y="5164200"/>
              <a:ext cx="57240" cy="55872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4764240" y="4603320"/>
              <a:ext cx="56880" cy="56052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4821120" y="4589280"/>
              <a:ext cx="57240" cy="140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878360" y="4589640"/>
              <a:ext cx="55440" cy="298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33800" y="4619520"/>
              <a:ext cx="57240" cy="158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991040" y="4635360"/>
              <a:ext cx="57240" cy="11350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5048280" y="5738760"/>
              <a:ext cx="57240" cy="316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5105520" y="5708520"/>
              <a:ext cx="42840" cy="302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5148360" y="5164200"/>
              <a:ext cx="56880" cy="54432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5205240" y="4525560"/>
              <a:ext cx="55800" cy="6382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5261040" y="4371840"/>
              <a:ext cx="57240" cy="1540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5318280" y="4324320"/>
              <a:ext cx="56880" cy="4752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375160" y="4324320"/>
              <a:ext cx="57240" cy="77796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5432400" y="4371480"/>
              <a:ext cx="57240" cy="7304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489640" y="4371840"/>
              <a:ext cx="57240" cy="217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546880" y="4589640"/>
              <a:ext cx="55440" cy="298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602320" y="4619520"/>
              <a:ext cx="42840" cy="1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645160" y="4619520"/>
              <a:ext cx="57240" cy="115092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702400" y="5770440"/>
              <a:ext cx="56880" cy="1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759280" y="5770440"/>
              <a:ext cx="57240" cy="16992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816520" y="5940360"/>
              <a:ext cx="57240" cy="316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873760" y="5972040"/>
              <a:ext cx="55440" cy="158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5929200" y="5972040"/>
              <a:ext cx="57240" cy="158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986440" y="5972040"/>
              <a:ext cx="57240" cy="1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043680" y="5972040"/>
              <a:ext cx="57240" cy="1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100920" y="5972040"/>
              <a:ext cx="42840" cy="1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1023840" y="2397240"/>
            <a:ext cx="5332680" cy="3576600"/>
            <a:chOff x="1023840" y="2397240"/>
            <a:chExt cx="5332680" cy="3576600"/>
          </a:xfrm>
        </p:grpSpPr>
        <p:sp>
          <p:nvSpPr>
            <p:cNvPr id="805" name=""/>
            <p:cNvSpPr/>
            <p:nvPr/>
          </p:nvSpPr>
          <p:spPr>
            <a:xfrm>
              <a:off x="6143760" y="5972040"/>
              <a:ext cx="56880" cy="1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200640" y="5972040"/>
              <a:ext cx="57240" cy="1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6257880" y="5956200"/>
              <a:ext cx="55440" cy="158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120680" y="2397240"/>
              <a:ext cx="3240" cy="18334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123920" y="4230720"/>
              <a:ext cx="57240" cy="936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181160" y="4324320"/>
              <a:ext cx="55440" cy="1396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1236600" y="4340160"/>
              <a:ext cx="42840" cy="123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279440" y="4340160"/>
              <a:ext cx="57240" cy="15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336680" y="4356000"/>
              <a:ext cx="57240" cy="619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393920" y="4417920"/>
              <a:ext cx="56880" cy="1080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450800" y="4525920"/>
              <a:ext cx="57240" cy="1414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1508040" y="4619160"/>
              <a:ext cx="5580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1563840" y="4525920"/>
              <a:ext cx="56880" cy="936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620720" y="4525920"/>
              <a:ext cx="57240" cy="18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677960" y="4525920"/>
              <a:ext cx="57240" cy="155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735200" y="4681440"/>
              <a:ext cx="42840" cy="18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778040" y="4681440"/>
              <a:ext cx="57240" cy="637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835280" y="4745160"/>
              <a:ext cx="55440" cy="14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1890720" y="4712760"/>
              <a:ext cx="57240" cy="32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1947960" y="4697280"/>
              <a:ext cx="56880" cy="15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004840" y="4697280"/>
              <a:ext cx="57240" cy="18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062080" y="4697280"/>
              <a:ext cx="57240" cy="18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119320" y="4697280"/>
              <a:ext cx="57240" cy="18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2176560" y="4541760"/>
              <a:ext cx="55440" cy="155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232000" y="4541760"/>
              <a:ext cx="42840" cy="1396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274840" y="4681440"/>
              <a:ext cx="57240" cy="7776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332080" y="4759200"/>
              <a:ext cx="572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2389320" y="4774680"/>
              <a:ext cx="56880" cy="32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446200" y="4775040"/>
              <a:ext cx="57240" cy="18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2503440" y="4759200"/>
              <a:ext cx="55440" cy="15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558880" y="4759200"/>
              <a:ext cx="57240" cy="18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2616120" y="4744800"/>
              <a:ext cx="57240" cy="14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673360" y="4745160"/>
              <a:ext cx="57240" cy="14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2730600" y="4712760"/>
              <a:ext cx="42840" cy="32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V="1">
              <a:off x="2773440" y="4651200"/>
              <a:ext cx="57240" cy="619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2830680" y="4603680"/>
              <a:ext cx="554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V="1">
              <a:off x="2886120" y="4479840"/>
              <a:ext cx="57240" cy="123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2943360" y="4308480"/>
              <a:ext cx="56880" cy="17136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000240" y="4308480"/>
              <a:ext cx="57240" cy="316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3057480" y="4262400"/>
              <a:ext cx="57240" cy="7776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3114720" y="4091040"/>
              <a:ext cx="57240" cy="17136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171960" y="4091040"/>
              <a:ext cx="42840" cy="14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214800" y="4091040"/>
              <a:ext cx="55440" cy="17136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3270240" y="4168800"/>
              <a:ext cx="57240" cy="936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3327480" y="4044960"/>
              <a:ext cx="57240" cy="123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3384720" y="4013280"/>
              <a:ext cx="56880" cy="316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441600" y="4013280"/>
              <a:ext cx="57240" cy="2174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3498840" y="4184640"/>
              <a:ext cx="572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3556080" y="4152960"/>
              <a:ext cx="55440" cy="316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3611520" y="4122720"/>
              <a:ext cx="57240" cy="302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668760" y="4122720"/>
              <a:ext cx="42840" cy="155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711600" y="4278240"/>
              <a:ext cx="57240" cy="18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768840" y="4278240"/>
              <a:ext cx="56880" cy="155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3825720" y="4417920"/>
              <a:ext cx="57240" cy="15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3882960" y="4340160"/>
              <a:ext cx="55800" cy="7776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938760" y="4340160"/>
              <a:ext cx="56880" cy="15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3995640" y="4308480"/>
              <a:ext cx="572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052880" y="4308480"/>
              <a:ext cx="57240" cy="7776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4110120" y="4308480"/>
              <a:ext cx="57240" cy="7776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167360" y="4308480"/>
              <a:ext cx="42840" cy="1094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210200" y="4417920"/>
              <a:ext cx="55440" cy="18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265640" y="4417920"/>
              <a:ext cx="572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4322880" y="4448160"/>
              <a:ext cx="56880" cy="15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379760" y="4448160"/>
              <a:ext cx="57240" cy="6336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437000" y="4511520"/>
              <a:ext cx="57240" cy="18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494240" y="4511520"/>
              <a:ext cx="57240" cy="18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551480" y="4511520"/>
              <a:ext cx="55440" cy="781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606920" y="4589640"/>
              <a:ext cx="42840" cy="14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649760" y="4603680"/>
              <a:ext cx="57240" cy="15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4707000" y="4603680"/>
              <a:ext cx="57240" cy="15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64240" y="4603680"/>
              <a:ext cx="56880" cy="18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>
              <a:off x="4821120" y="4589280"/>
              <a:ext cx="57240" cy="14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878360" y="4589640"/>
              <a:ext cx="55440" cy="29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933800" y="4619520"/>
              <a:ext cx="57240" cy="15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991040" y="4635360"/>
              <a:ext cx="572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5048280" y="4651200"/>
              <a:ext cx="57240" cy="302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5105520" y="460368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5148360" y="4495680"/>
              <a:ext cx="56880" cy="1080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205240" y="4495680"/>
              <a:ext cx="55800" cy="302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5261040" y="4371840"/>
              <a:ext cx="57240" cy="154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5318280" y="4324320"/>
              <a:ext cx="5688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375160" y="4324320"/>
              <a:ext cx="57240" cy="7776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5432400" y="4371840"/>
              <a:ext cx="57240" cy="302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489640" y="4371840"/>
              <a:ext cx="57240" cy="2178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546880" y="4589640"/>
              <a:ext cx="55440" cy="29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602320" y="4619520"/>
              <a:ext cx="42840" cy="18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5645160" y="4448160"/>
              <a:ext cx="57240" cy="17136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702400" y="4448160"/>
              <a:ext cx="56880" cy="15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759280" y="4464000"/>
              <a:ext cx="57240" cy="1094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816520" y="4573440"/>
              <a:ext cx="57240" cy="7776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5873760" y="4371840"/>
              <a:ext cx="55440" cy="27936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929200" y="4371840"/>
              <a:ext cx="57240" cy="302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986440" y="4402080"/>
              <a:ext cx="57240" cy="1094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43680" y="4511520"/>
              <a:ext cx="57240" cy="1396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6100920" y="4557600"/>
              <a:ext cx="42840" cy="936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143760" y="4557600"/>
              <a:ext cx="56880" cy="7776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200640" y="4635360"/>
              <a:ext cx="57240" cy="18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257880" y="4635360"/>
              <a:ext cx="554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23840" y="396720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081080" y="410688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138320" y="4371840"/>
              <a:ext cx="83880" cy="92160"/>
            </a:xfrm>
            <a:custGeom>
              <a:avLst/>
              <a:gdLst/>
              <a:ahLst/>
              <a:rect l="l" t="t" r="r" b="b"/>
              <a:pathLst>
                <a:path w="53" h="58">
                  <a:moveTo>
                    <a:pt x="27" y="0"/>
                  </a:moveTo>
                  <a:lnTo>
                    <a:pt x="53" y="29"/>
                  </a:lnTo>
                  <a:lnTo>
                    <a:pt x="27" y="58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193760" y="444816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236600" y="418464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293840" y="421632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29"/>
                  </a:lnTo>
                  <a:lnTo>
                    <a:pt x="27" y="58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351080" y="429408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29"/>
                  </a:lnTo>
                  <a:lnTo>
                    <a:pt x="27" y="58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407960" y="4495680"/>
              <a:ext cx="86040" cy="93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465200" y="4541760"/>
              <a:ext cx="8424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7" y="0"/>
                  </a:moveTo>
                  <a:lnTo>
                    <a:pt x="53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522440" y="4541760"/>
              <a:ext cx="8424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6" y="0"/>
                  </a:moveTo>
                  <a:lnTo>
                    <a:pt x="53" y="30"/>
                  </a:lnTo>
                  <a:lnTo>
                    <a:pt x="26" y="59"/>
                  </a:lnTo>
                  <a:lnTo>
                    <a:pt x="0" y="3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577880" y="454176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635120" y="454176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692360" y="4573440"/>
              <a:ext cx="85680" cy="93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735200" y="4573440"/>
              <a:ext cx="85680" cy="93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792440" y="4619520"/>
              <a:ext cx="8388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7" y="0"/>
                  </a:moveTo>
                  <a:lnTo>
                    <a:pt x="53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849320" y="4635360"/>
              <a:ext cx="84240" cy="9396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6" y="0"/>
                  </a:moveTo>
                  <a:lnTo>
                    <a:pt x="53" y="29"/>
                  </a:lnTo>
                  <a:lnTo>
                    <a:pt x="26" y="59"/>
                  </a:lnTo>
                  <a:lnTo>
                    <a:pt x="0" y="2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905120" y="460368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962000" y="4589640"/>
              <a:ext cx="86040" cy="9180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29"/>
                  </a:lnTo>
                  <a:lnTo>
                    <a:pt x="27" y="58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019240" y="4573440"/>
              <a:ext cx="85680" cy="93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076480" y="4573440"/>
              <a:ext cx="85680" cy="93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33720" y="4573440"/>
              <a:ext cx="83880" cy="9396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7" y="0"/>
                  </a:moveTo>
                  <a:lnTo>
                    <a:pt x="53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90600" y="4417920"/>
              <a:ext cx="8424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6" y="0"/>
                  </a:moveTo>
                  <a:lnTo>
                    <a:pt x="53" y="29"/>
                  </a:lnTo>
                  <a:lnTo>
                    <a:pt x="26" y="59"/>
                  </a:lnTo>
                  <a:lnTo>
                    <a:pt x="0" y="2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232000" y="455760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289240" y="4635360"/>
              <a:ext cx="85680" cy="93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346480" y="4697280"/>
              <a:ext cx="85680" cy="93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403360" y="4667400"/>
              <a:ext cx="85680" cy="9180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29"/>
                  </a:lnTo>
                  <a:lnTo>
                    <a:pt x="27" y="58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460600" y="4667400"/>
              <a:ext cx="84240" cy="91800"/>
            </a:xfrm>
            <a:custGeom>
              <a:avLst/>
              <a:gdLst/>
              <a:ahLst/>
              <a:rect l="l" t="t" r="r" b="b"/>
              <a:pathLst>
                <a:path w="53" h="58">
                  <a:moveTo>
                    <a:pt x="27" y="0"/>
                  </a:moveTo>
                  <a:lnTo>
                    <a:pt x="53" y="29"/>
                  </a:lnTo>
                  <a:lnTo>
                    <a:pt x="27" y="58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517840" y="4651200"/>
              <a:ext cx="84240" cy="9396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6" y="0"/>
                  </a:moveTo>
                  <a:lnTo>
                    <a:pt x="53" y="29"/>
                  </a:lnTo>
                  <a:lnTo>
                    <a:pt x="26" y="59"/>
                  </a:lnTo>
                  <a:lnTo>
                    <a:pt x="0" y="2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573280" y="4651200"/>
              <a:ext cx="85680" cy="93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630520" y="4651200"/>
              <a:ext cx="85680" cy="93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687760" y="4651200"/>
              <a:ext cx="85680" cy="93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730600" y="460368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787480" y="4541760"/>
              <a:ext cx="8604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844720" y="4479840"/>
              <a:ext cx="8424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6" y="0"/>
                  </a:moveTo>
                  <a:lnTo>
                    <a:pt x="53" y="29"/>
                  </a:lnTo>
                  <a:lnTo>
                    <a:pt x="26" y="59"/>
                  </a:lnTo>
                  <a:lnTo>
                    <a:pt x="0" y="2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900520" y="435600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29"/>
                  </a:lnTo>
                  <a:lnTo>
                    <a:pt x="27" y="58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957400" y="418464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014640" y="421632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29"/>
                  </a:lnTo>
                  <a:lnTo>
                    <a:pt x="27" y="58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071880" y="413856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29"/>
                  </a:lnTo>
                  <a:lnTo>
                    <a:pt x="27" y="58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129120" y="395136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171960" y="3951360"/>
              <a:ext cx="8388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7" y="0"/>
                  </a:moveTo>
                  <a:lnTo>
                    <a:pt x="53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227400" y="413856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29"/>
                  </a:lnTo>
                  <a:lnTo>
                    <a:pt x="27" y="58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284640" y="402912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341520" y="3905280"/>
              <a:ext cx="8604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398760" y="387360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456000" y="418464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513240" y="4091040"/>
              <a:ext cx="8388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7" y="0"/>
                  </a:moveTo>
                  <a:lnTo>
                    <a:pt x="53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568680" y="404496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625920" y="407664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29"/>
                  </a:lnTo>
                  <a:lnTo>
                    <a:pt x="27" y="58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668760" y="415296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726000" y="416880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782880" y="435600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29"/>
                  </a:lnTo>
                  <a:lnTo>
                    <a:pt x="27" y="58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840120" y="4294080"/>
              <a:ext cx="84240" cy="92160"/>
            </a:xfrm>
            <a:custGeom>
              <a:avLst/>
              <a:gdLst/>
              <a:ahLst/>
              <a:rect l="l" t="t" r="r" b="b"/>
              <a:pathLst>
                <a:path w="53" h="58">
                  <a:moveTo>
                    <a:pt x="27" y="0"/>
                  </a:moveTo>
                  <a:lnTo>
                    <a:pt x="53" y="29"/>
                  </a:lnTo>
                  <a:lnTo>
                    <a:pt x="27" y="58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895560" y="4246560"/>
              <a:ext cx="8604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952800" y="426240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010040" y="426240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067280" y="430848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124160" y="4168800"/>
              <a:ext cx="8604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167360" y="4294080"/>
              <a:ext cx="83880" cy="92160"/>
            </a:xfrm>
            <a:custGeom>
              <a:avLst/>
              <a:gdLst/>
              <a:ahLst/>
              <a:rect l="l" t="t" r="r" b="b"/>
              <a:pathLst>
                <a:path w="53" h="58">
                  <a:moveTo>
                    <a:pt x="27" y="0"/>
                  </a:moveTo>
                  <a:lnTo>
                    <a:pt x="53" y="29"/>
                  </a:lnTo>
                  <a:lnTo>
                    <a:pt x="27" y="58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224240" y="4294080"/>
              <a:ext cx="84240" cy="92160"/>
            </a:xfrm>
            <a:custGeom>
              <a:avLst/>
              <a:gdLst/>
              <a:ahLst/>
              <a:rect l="l" t="t" r="r" b="b"/>
              <a:pathLst>
                <a:path w="53" h="58">
                  <a:moveTo>
                    <a:pt x="26" y="0"/>
                  </a:moveTo>
                  <a:lnTo>
                    <a:pt x="53" y="29"/>
                  </a:lnTo>
                  <a:lnTo>
                    <a:pt x="26" y="58"/>
                  </a:lnTo>
                  <a:lnTo>
                    <a:pt x="0" y="2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280040" y="434016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336920" y="432432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394160" y="452592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451400" y="452592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508640" y="4525920"/>
              <a:ext cx="8388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7" y="0"/>
                  </a:moveTo>
                  <a:lnTo>
                    <a:pt x="53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565520" y="4573440"/>
              <a:ext cx="84240" cy="9396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6" y="0"/>
                  </a:moveTo>
                  <a:lnTo>
                    <a:pt x="53" y="29"/>
                  </a:lnTo>
                  <a:lnTo>
                    <a:pt x="26" y="59"/>
                  </a:lnTo>
                  <a:lnTo>
                    <a:pt x="0" y="2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606920" y="4573440"/>
              <a:ext cx="85680" cy="93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664160" y="451152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29"/>
                  </a:lnTo>
                  <a:lnTo>
                    <a:pt x="27" y="58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721400" y="452592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778280" y="455760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835520" y="4541760"/>
              <a:ext cx="8424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7" y="0"/>
                  </a:moveTo>
                  <a:lnTo>
                    <a:pt x="53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892760" y="4573440"/>
              <a:ext cx="83880" cy="9396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6" y="0"/>
                  </a:moveTo>
                  <a:lnTo>
                    <a:pt x="53" y="29"/>
                  </a:lnTo>
                  <a:lnTo>
                    <a:pt x="26" y="59"/>
                  </a:lnTo>
                  <a:lnTo>
                    <a:pt x="0" y="2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948200" y="4589640"/>
              <a:ext cx="85680" cy="9180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29"/>
                  </a:lnTo>
                  <a:lnTo>
                    <a:pt x="27" y="58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005440" y="4573440"/>
              <a:ext cx="85680" cy="93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062680" y="454176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105520" y="4495680"/>
              <a:ext cx="85680" cy="93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162400" y="4402080"/>
              <a:ext cx="8604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219640" y="4479840"/>
              <a:ext cx="8424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6" y="0"/>
                  </a:moveTo>
                  <a:lnTo>
                    <a:pt x="53" y="29"/>
                  </a:lnTo>
                  <a:lnTo>
                    <a:pt x="26" y="59"/>
                  </a:lnTo>
                  <a:lnTo>
                    <a:pt x="0" y="2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275440" y="432432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332320" y="427824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389560" y="432432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446800" y="432432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504040" y="4541760"/>
              <a:ext cx="8388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7" y="0"/>
                  </a:moveTo>
                  <a:lnTo>
                    <a:pt x="53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560920" y="4573440"/>
              <a:ext cx="84240" cy="9396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6" y="0"/>
                  </a:moveTo>
                  <a:lnTo>
                    <a:pt x="53" y="29"/>
                  </a:lnTo>
                  <a:lnTo>
                    <a:pt x="26" y="59"/>
                  </a:lnTo>
                  <a:lnTo>
                    <a:pt x="0" y="2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602320" y="4573440"/>
              <a:ext cx="85680" cy="93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659560" y="432432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716440" y="4340160"/>
              <a:ext cx="8604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773680" y="444816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830920" y="452592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888160" y="4230720"/>
              <a:ext cx="8388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6" y="0"/>
                  </a:moveTo>
                  <a:lnTo>
                    <a:pt x="53" y="30"/>
                  </a:lnTo>
                  <a:lnTo>
                    <a:pt x="26" y="59"/>
                  </a:lnTo>
                  <a:lnTo>
                    <a:pt x="0" y="3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943600" y="427824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000840" y="437184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29"/>
                  </a:lnTo>
                  <a:lnTo>
                    <a:pt x="27" y="58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058080" y="452592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30"/>
                  </a:lnTo>
                  <a:lnTo>
                    <a:pt x="27" y="59"/>
                  </a:lnTo>
                  <a:lnTo>
                    <a:pt x="0" y="3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100920" y="441792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157800" y="451152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29"/>
                  </a:lnTo>
                  <a:lnTo>
                    <a:pt x="27" y="58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215040" y="4573440"/>
              <a:ext cx="84240" cy="9396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7" y="0"/>
                  </a:moveTo>
                  <a:lnTo>
                    <a:pt x="53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270480" y="4651200"/>
              <a:ext cx="86040" cy="93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29"/>
                  </a:lnTo>
                  <a:lnTo>
                    <a:pt x="27" y="59"/>
                  </a:lnTo>
                  <a:lnTo>
                    <a:pt x="0" y="2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081080" y="4216320"/>
              <a:ext cx="85680" cy="921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138320" y="4230720"/>
              <a:ext cx="838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193760" y="440208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236600" y="434016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293840" y="4356000"/>
              <a:ext cx="85680" cy="921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351080" y="440208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5" name=""/>
          <p:cNvGrpSpPr/>
          <p:nvPr/>
        </p:nvGrpSpPr>
        <p:grpSpPr>
          <a:xfrm>
            <a:off x="1023840" y="4013280"/>
            <a:ext cx="5332680" cy="2052720"/>
            <a:chOff x="1023840" y="4013280"/>
            <a:chExt cx="5332680" cy="2052720"/>
          </a:xfrm>
        </p:grpSpPr>
        <p:sp>
          <p:nvSpPr>
            <p:cNvPr id="1006" name=""/>
            <p:cNvSpPr/>
            <p:nvPr/>
          </p:nvSpPr>
          <p:spPr>
            <a:xfrm>
              <a:off x="1407960" y="4479840"/>
              <a:ext cx="8604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465200" y="4651200"/>
              <a:ext cx="84240" cy="939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522440" y="4603680"/>
              <a:ext cx="8424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577880" y="446400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635120" y="444816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692360" y="4667400"/>
              <a:ext cx="85680" cy="918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735200" y="4667400"/>
              <a:ext cx="85680" cy="918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792440" y="4729320"/>
              <a:ext cx="83880" cy="918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849320" y="4745160"/>
              <a:ext cx="84240" cy="918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905120" y="4697280"/>
              <a:ext cx="85680" cy="939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962000" y="4681440"/>
              <a:ext cx="8604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019240" y="468144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076480" y="468144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133720" y="4681440"/>
              <a:ext cx="838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190600" y="4541760"/>
              <a:ext cx="8424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232000" y="4667400"/>
              <a:ext cx="85680" cy="918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289240" y="4745160"/>
              <a:ext cx="85680" cy="918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346480" y="479124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403360" y="4759200"/>
              <a:ext cx="85680" cy="939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460600" y="4775040"/>
              <a:ext cx="84240" cy="939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517840" y="4745160"/>
              <a:ext cx="84240" cy="918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573280" y="4745160"/>
              <a:ext cx="85680" cy="918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630520" y="4729320"/>
              <a:ext cx="85680" cy="918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687760" y="4729320"/>
              <a:ext cx="85680" cy="918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730600" y="4697280"/>
              <a:ext cx="85680" cy="939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787480" y="4635360"/>
              <a:ext cx="86040" cy="939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844720" y="4589640"/>
              <a:ext cx="84240" cy="918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0520" y="446400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57400" y="430848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014640" y="434016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071880" y="426240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129120" y="409104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171960" y="4091040"/>
              <a:ext cx="838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227400" y="426240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284640" y="416880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341520" y="4044960"/>
              <a:ext cx="8604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398760" y="401328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456000" y="418464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513240" y="4168800"/>
              <a:ext cx="838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568680" y="4138560"/>
              <a:ext cx="85680" cy="921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625920" y="4076640"/>
              <a:ext cx="85680" cy="921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668760" y="427824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726000" y="424656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782880" y="441792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840120" y="4402080"/>
              <a:ext cx="8424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895560" y="4308480"/>
              <a:ext cx="8604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952800" y="432432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10040" y="426240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067280" y="4371840"/>
              <a:ext cx="85680" cy="921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124160" y="4294080"/>
              <a:ext cx="86040" cy="921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167360" y="4402080"/>
              <a:ext cx="838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224240" y="4402080"/>
              <a:ext cx="8424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280040" y="444816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336920" y="4433760"/>
              <a:ext cx="85680" cy="921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394160" y="441792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451400" y="441792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508640" y="4433760"/>
              <a:ext cx="83880" cy="921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565520" y="4525920"/>
              <a:ext cx="8424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606920" y="454176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664160" y="460368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721400" y="4573440"/>
              <a:ext cx="85680" cy="939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778280" y="455760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835520" y="4541760"/>
              <a:ext cx="8424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892760" y="4573440"/>
              <a:ext cx="83880" cy="939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948200" y="4589640"/>
              <a:ext cx="85680" cy="918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005440" y="4667400"/>
              <a:ext cx="85680" cy="918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062680" y="4635360"/>
              <a:ext cx="85680" cy="939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105520" y="4589640"/>
              <a:ext cx="85680" cy="918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162400" y="4464000"/>
              <a:ext cx="8604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219640" y="4479840"/>
              <a:ext cx="8424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275440" y="432432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332320" y="427824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389560" y="438624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446800" y="432432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504040" y="4541760"/>
              <a:ext cx="838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560920" y="4573440"/>
              <a:ext cx="84240" cy="939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602320" y="4573440"/>
              <a:ext cx="85680" cy="939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659560" y="4433760"/>
              <a:ext cx="85680" cy="921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716440" y="4464000"/>
              <a:ext cx="8604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773680" y="455760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830920" y="4651200"/>
              <a:ext cx="85680" cy="939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888160" y="4371840"/>
              <a:ext cx="83880" cy="921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943600" y="440208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000840" y="4511520"/>
              <a:ext cx="85680" cy="921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058080" y="4651200"/>
              <a:ext cx="85680" cy="939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100920" y="454176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157800" y="4619520"/>
              <a:ext cx="8568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215040" y="4589640"/>
              <a:ext cx="84240" cy="918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270480" y="4619520"/>
              <a:ext cx="86040" cy="9360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023840" y="592596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58"/>
                  </a:lnTo>
                  <a:lnTo>
                    <a:pt x="0" y="5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081080" y="595620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138320" y="5972040"/>
              <a:ext cx="83880" cy="9396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7" y="0"/>
                  </a:moveTo>
                  <a:lnTo>
                    <a:pt x="53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193760" y="5972040"/>
              <a:ext cx="85680" cy="93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236600" y="592596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58"/>
                  </a:lnTo>
                  <a:lnTo>
                    <a:pt x="0" y="5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293840" y="592596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58"/>
                  </a:lnTo>
                  <a:lnTo>
                    <a:pt x="0" y="5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351080" y="594036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407960" y="5925960"/>
              <a:ext cx="8604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58"/>
                  </a:lnTo>
                  <a:lnTo>
                    <a:pt x="0" y="5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465200" y="5910120"/>
              <a:ext cx="84240" cy="9396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7" y="0"/>
                  </a:moveTo>
                  <a:lnTo>
                    <a:pt x="53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522440" y="5910120"/>
              <a:ext cx="84240" cy="9396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6" y="0"/>
                  </a:moveTo>
                  <a:lnTo>
                    <a:pt x="53" y="59"/>
                  </a:lnTo>
                  <a:lnTo>
                    <a:pt x="0" y="5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577880" y="5910120"/>
              <a:ext cx="85680" cy="93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635120" y="5910120"/>
              <a:ext cx="85680" cy="93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692360" y="569268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58"/>
                  </a:lnTo>
                  <a:lnTo>
                    <a:pt x="0" y="5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735200" y="572292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792440" y="5894280"/>
              <a:ext cx="8388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7" y="0"/>
                  </a:moveTo>
                  <a:lnTo>
                    <a:pt x="53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849320" y="5894280"/>
              <a:ext cx="8424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6" y="0"/>
                  </a:moveTo>
                  <a:lnTo>
                    <a:pt x="53" y="59"/>
                  </a:lnTo>
                  <a:lnTo>
                    <a:pt x="0" y="5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905120" y="569268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58"/>
                  </a:lnTo>
                  <a:lnTo>
                    <a:pt x="0" y="5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962000" y="5692680"/>
              <a:ext cx="8604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58"/>
                  </a:lnTo>
                  <a:lnTo>
                    <a:pt x="0" y="5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019240" y="589428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076480" y="589428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133720" y="5910120"/>
              <a:ext cx="83880" cy="9396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7" y="0"/>
                  </a:moveTo>
                  <a:lnTo>
                    <a:pt x="53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190600" y="5910120"/>
              <a:ext cx="84240" cy="9396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6" y="0"/>
                  </a:moveTo>
                  <a:lnTo>
                    <a:pt x="53" y="59"/>
                  </a:lnTo>
                  <a:lnTo>
                    <a:pt x="0" y="5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232000" y="5910120"/>
              <a:ext cx="85680" cy="93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289240" y="5910120"/>
              <a:ext cx="85680" cy="93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346480" y="589428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403360" y="589428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460600" y="5894280"/>
              <a:ext cx="8424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7" y="0"/>
                  </a:moveTo>
                  <a:lnTo>
                    <a:pt x="53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517840" y="5692680"/>
              <a:ext cx="84240" cy="92160"/>
            </a:xfrm>
            <a:custGeom>
              <a:avLst/>
              <a:gdLst/>
              <a:ahLst/>
              <a:rect l="l" t="t" r="r" b="b"/>
              <a:pathLst>
                <a:path w="53" h="58">
                  <a:moveTo>
                    <a:pt x="26" y="0"/>
                  </a:moveTo>
                  <a:lnTo>
                    <a:pt x="53" y="58"/>
                  </a:lnTo>
                  <a:lnTo>
                    <a:pt x="0" y="58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573280" y="566100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630520" y="567684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687760" y="566100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730600" y="566100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787480" y="5692680"/>
              <a:ext cx="8604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58"/>
                  </a:lnTo>
                  <a:lnTo>
                    <a:pt x="0" y="5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844720" y="5676840"/>
              <a:ext cx="8424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6" y="0"/>
                  </a:moveTo>
                  <a:lnTo>
                    <a:pt x="53" y="59"/>
                  </a:lnTo>
                  <a:lnTo>
                    <a:pt x="0" y="5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900520" y="569268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58"/>
                  </a:lnTo>
                  <a:lnTo>
                    <a:pt x="0" y="5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957400" y="569268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58"/>
                  </a:lnTo>
                  <a:lnTo>
                    <a:pt x="0" y="5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014640" y="564516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071880" y="566100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129120" y="564516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171960" y="5661000"/>
              <a:ext cx="8388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7" y="0"/>
                  </a:moveTo>
                  <a:lnTo>
                    <a:pt x="53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227400" y="564516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284640" y="566100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341520" y="5645160"/>
              <a:ext cx="8604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398760" y="564516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456000" y="418464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513240" y="5116680"/>
              <a:ext cx="8388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7" y="0"/>
                  </a:moveTo>
                  <a:lnTo>
                    <a:pt x="53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568680" y="511668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625920" y="407664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58"/>
                  </a:lnTo>
                  <a:lnTo>
                    <a:pt x="0" y="5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668760" y="564516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726000" y="511668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782880" y="511668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840120" y="5645160"/>
              <a:ext cx="8424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7" y="0"/>
                  </a:moveTo>
                  <a:lnTo>
                    <a:pt x="53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895560" y="5116680"/>
              <a:ext cx="8604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952800" y="511668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010040" y="426240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067280" y="511668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124160" y="5645160"/>
              <a:ext cx="8604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167360" y="5645160"/>
              <a:ext cx="8388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7" y="0"/>
                  </a:moveTo>
                  <a:lnTo>
                    <a:pt x="53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224240" y="5692680"/>
              <a:ext cx="84240" cy="92160"/>
            </a:xfrm>
            <a:custGeom>
              <a:avLst/>
              <a:gdLst/>
              <a:ahLst/>
              <a:rect l="l" t="t" r="r" b="b"/>
              <a:pathLst>
                <a:path w="53" h="58">
                  <a:moveTo>
                    <a:pt x="26" y="0"/>
                  </a:moveTo>
                  <a:lnTo>
                    <a:pt x="53" y="58"/>
                  </a:lnTo>
                  <a:lnTo>
                    <a:pt x="0" y="58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280040" y="564516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336920" y="564516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394160" y="569268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58"/>
                  </a:lnTo>
                  <a:lnTo>
                    <a:pt x="0" y="5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451400" y="564516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508640" y="5661000"/>
              <a:ext cx="8388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7" y="0"/>
                  </a:moveTo>
                  <a:lnTo>
                    <a:pt x="53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565520" y="5116680"/>
              <a:ext cx="8424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6" y="0"/>
                  </a:moveTo>
                  <a:lnTo>
                    <a:pt x="53" y="59"/>
                  </a:lnTo>
                  <a:lnTo>
                    <a:pt x="0" y="5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606920" y="567684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664160" y="567684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721400" y="511668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778280" y="455760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835520" y="4541760"/>
              <a:ext cx="8424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7" y="0"/>
                  </a:moveTo>
                  <a:lnTo>
                    <a:pt x="53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892760" y="4573440"/>
              <a:ext cx="83880" cy="9396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6" y="0"/>
                  </a:moveTo>
                  <a:lnTo>
                    <a:pt x="53" y="59"/>
                  </a:lnTo>
                  <a:lnTo>
                    <a:pt x="0" y="5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948200" y="4589640"/>
              <a:ext cx="85680" cy="9180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58"/>
                  </a:lnTo>
                  <a:lnTo>
                    <a:pt x="0" y="5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005440" y="572292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062680" y="569268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58"/>
                  </a:lnTo>
                  <a:lnTo>
                    <a:pt x="0" y="5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105520" y="566100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162400" y="5116680"/>
              <a:ext cx="8604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219640" y="4479840"/>
              <a:ext cx="8424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6" y="0"/>
                  </a:moveTo>
                  <a:lnTo>
                    <a:pt x="53" y="59"/>
                  </a:lnTo>
                  <a:lnTo>
                    <a:pt x="0" y="5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275440" y="432432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332320" y="427824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389560" y="505476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446800" y="432432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504040" y="4541760"/>
              <a:ext cx="8388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7" y="0"/>
                  </a:moveTo>
                  <a:lnTo>
                    <a:pt x="53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560920" y="4573440"/>
              <a:ext cx="84240" cy="9396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6" y="0"/>
                  </a:moveTo>
                  <a:lnTo>
                    <a:pt x="53" y="59"/>
                  </a:lnTo>
                  <a:lnTo>
                    <a:pt x="0" y="5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602320" y="4573440"/>
              <a:ext cx="85680" cy="93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659560" y="572292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716440" y="5722920"/>
              <a:ext cx="8604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773680" y="589428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830920" y="592596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58"/>
                  </a:lnTo>
                  <a:lnTo>
                    <a:pt x="0" y="5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888160" y="5940360"/>
              <a:ext cx="8388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26" y="0"/>
                  </a:moveTo>
                  <a:lnTo>
                    <a:pt x="53" y="59"/>
                  </a:lnTo>
                  <a:lnTo>
                    <a:pt x="0" y="5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943600" y="592596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58"/>
                  </a:lnTo>
                  <a:lnTo>
                    <a:pt x="0" y="5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000840" y="592596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58"/>
                  </a:lnTo>
                  <a:lnTo>
                    <a:pt x="0" y="5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058080" y="592596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58"/>
                  </a:lnTo>
                  <a:lnTo>
                    <a:pt x="0" y="5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100920" y="592596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58"/>
                  </a:lnTo>
                  <a:lnTo>
                    <a:pt x="0" y="5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157800" y="592596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27" y="0"/>
                  </a:moveTo>
                  <a:lnTo>
                    <a:pt x="54" y="58"/>
                  </a:lnTo>
                  <a:lnTo>
                    <a:pt x="0" y="5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215040" y="5925960"/>
              <a:ext cx="84240" cy="92160"/>
            </a:xfrm>
            <a:custGeom>
              <a:avLst/>
              <a:gdLst/>
              <a:ahLst/>
              <a:rect l="l" t="t" r="r" b="b"/>
              <a:pathLst>
                <a:path w="53" h="58">
                  <a:moveTo>
                    <a:pt x="27" y="0"/>
                  </a:moveTo>
                  <a:lnTo>
                    <a:pt x="53" y="58"/>
                  </a:lnTo>
                  <a:lnTo>
                    <a:pt x="0" y="5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270480" y="5910120"/>
              <a:ext cx="86040" cy="93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7" y="0"/>
                  </a:moveTo>
                  <a:lnTo>
                    <a:pt x="54" y="59"/>
                  </a:lnTo>
                  <a:lnTo>
                    <a:pt x="0" y="5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066680" y="4168800"/>
              <a:ext cx="1414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 flipV="1">
              <a:off x="1080720" y="41846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123920" y="423072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H="1">
              <a:off x="1080720" y="423072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1123920" y="41846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123920" y="4262400"/>
              <a:ext cx="1414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 flipV="1">
              <a:off x="1137960" y="42782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181160" y="4324320"/>
              <a:ext cx="410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H="1">
              <a:off x="1137960" y="432432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V="1">
              <a:off x="1181160" y="4278240"/>
              <a:ext cx="410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181160" y="4402080"/>
              <a:ext cx="1411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H="1" flipV="1">
              <a:off x="1193400" y="44179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236600" y="446400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H="1">
              <a:off x="1193400" y="446400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1236600" y="44179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6" name=""/>
          <p:cNvGrpSpPr/>
          <p:nvPr/>
        </p:nvGrpSpPr>
        <p:grpSpPr>
          <a:xfrm>
            <a:off x="1222200" y="3951360"/>
            <a:ext cx="2305080" cy="947520"/>
            <a:chOff x="1222200" y="3951360"/>
            <a:chExt cx="2305080" cy="947520"/>
          </a:xfrm>
        </p:grpSpPr>
        <p:sp>
          <p:nvSpPr>
            <p:cNvPr id="1207" name=""/>
            <p:cNvSpPr/>
            <p:nvPr/>
          </p:nvSpPr>
          <p:spPr>
            <a:xfrm>
              <a:off x="1222200" y="427824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 flipV="1">
              <a:off x="1236240" y="429408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279440" y="43401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>
              <a:off x="1236240" y="43401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V="1">
              <a:off x="1279440" y="429408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279440" y="4294080"/>
              <a:ext cx="14292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H="1" flipV="1">
              <a:off x="1293480" y="430848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336680" y="43560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H="1">
              <a:off x="1293480" y="43560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1336680" y="430848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336680" y="435600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 flipV="1">
              <a:off x="1350720" y="43718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393920" y="44179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H="1">
              <a:off x="1350720" y="44179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1393920" y="43718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393920" y="4464000"/>
              <a:ext cx="1411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H="1" flipV="1">
              <a:off x="1407600" y="44798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450800" y="4525920"/>
              <a:ext cx="4320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H="1">
              <a:off x="1407600" y="452592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V="1">
              <a:off x="1450800" y="4479840"/>
              <a:ext cx="4320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450800" y="4603680"/>
              <a:ext cx="1414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H="1" flipV="1">
              <a:off x="1464840" y="461916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508040" y="4667400"/>
              <a:ext cx="41400" cy="457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1464840" y="4667400"/>
              <a:ext cx="42840" cy="457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V="1">
              <a:off x="1508040" y="4619160"/>
              <a:ext cx="4140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508040" y="4557600"/>
              <a:ext cx="1414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H="1" flipV="1">
              <a:off x="1522080" y="4573440"/>
              <a:ext cx="4140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563840" y="461952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H="1">
              <a:off x="1522080" y="4619520"/>
              <a:ext cx="4140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V="1">
              <a:off x="1563840" y="45734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563840" y="4464000"/>
              <a:ext cx="14256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H="1" flipV="1">
              <a:off x="1577520" y="44798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620720" y="452592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>
              <a:off x="1577520" y="452592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V="1">
              <a:off x="1620720" y="44798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620720" y="446400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H="1" flipV="1">
              <a:off x="1634760" y="44798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677960" y="452592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>
              <a:off x="1634760" y="452592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V="1">
              <a:off x="1677960" y="44798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677960" y="461952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 flipV="1">
              <a:off x="1692000" y="46353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735200" y="468144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H="1">
              <a:off x="1692000" y="468144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V="1">
              <a:off x="1735200" y="46353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720800" y="4619520"/>
              <a:ext cx="1414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 flipV="1">
              <a:off x="1734840" y="46353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778040" y="468144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H="1">
              <a:off x="1734840" y="468144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V="1">
              <a:off x="1778040" y="46353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778040" y="4681440"/>
              <a:ext cx="1411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H="1" flipV="1">
              <a:off x="1792080" y="469692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835280" y="4745160"/>
              <a:ext cx="410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1792080" y="47451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1835280" y="4696920"/>
              <a:ext cx="410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835280" y="4681440"/>
              <a:ext cx="1411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 flipV="1">
              <a:off x="1848960" y="4696920"/>
              <a:ext cx="4140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890720" y="47451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1848960" y="4745160"/>
              <a:ext cx="4140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V="1">
              <a:off x="1890720" y="469692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890720" y="4651200"/>
              <a:ext cx="14292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 flipV="1">
              <a:off x="1904760" y="4667040"/>
              <a:ext cx="42840" cy="457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947960" y="47131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1904760" y="47131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V="1">
              <a:off x="1947960" y="4667040"/>
              <a:ext cx="42840" cy="457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947960" y="4635360"/>
              <a:ext cx="14292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 flipV="1">
              <a:off x="1961640" y="46512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004840" y="4697280"/>
              <a:ext cx="4320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H="1">
              <a:off x="1961640" y="469728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V="1">
              <a:off x="2004840" y="4651200"/>
              <a:ext cx="4320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004840" y="4635360"/>
              <a:ext cx="14292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 flipV="1">
              <a:off x="2018880" y="46512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062080" y="469728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>
              <a:off x="2018880" y="469728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V="1">
              <a:off x="2062080" y="46512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062080" y="4635360"/>
              <a:ext cx="14148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 flipV="1">
              <a:off x="2076120" y="46512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119320" y="469728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H="1">
              <a:off x="2076120" y="469728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V="1">
              <a:off x="2119320" y="46512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119320" y="4635360"/>
              <a:ext cx="14112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 flipV="1">
              <a:off x="2133360" y="46512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176560" y="4697280"/>
              <a:ext cx="410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>
              <a:off x="2133360" y="469728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V="1">
              <a:off x="2176560" y="4651200"/>
              <a:ext cx="410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176560" y="4479840"/>
              <a:ext cx="1411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H="1" flipV="1">
              <a:off x="2190240" y="4495680"/>
              <a:ext cx="4140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232000" y="454176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H="1">
              <a:off x="2190240" y="4541760"/>
              <a:ext cx="4140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>
              <a:off x="2232000" y="449568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217600" y="461952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H="1" flipV="1">
              <a:off x="2231640" y="46353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274840" y="468144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2231640" y="468144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V="1">
              <a:off x="2274840" y="46353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274840" y="4697280"/>
              <a:ext cx="14292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 flipV="1">
              <a:off x="2288880" y="47131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332080" y="475920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>
              <a:off x="2288880" y="475920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V="1">
              <a:off x="2332080" y="47131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332080" y="4745160"/>
              <a:ext cx="142920" cy="15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 flipV="1">
              <a:off x="2346120" y="475884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389320" y="480708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>
              <a:off x="2346120" y="480708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V="1">
              <a:off x="2389320" y="475884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389320" y="4713120"/>
              <a:ext cx="14292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H="1" flipV="1">
              <a:off x="2403000" y="4728960"/>
              <a:ext cx="42840" cy="457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446200" y="47750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H="1">
              <a:off x="2403000" y="47750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V="1">
              <a:off x="2446200" y="4728960"/>
              <a:ext cx="42840" cy="457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446200" y="4713120"/>
              <a:ext cx="14148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 flipV="1">
              <a:off x="2460240" y="4728960"/>
              <a:ext cx="42840" cy="457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2503440" y="4775040"/>
              <a:ext cx="4140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H="1">
              <a:off x="2460240" y="47750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V="1">
              <a:off x="2503440" y="4728960"/>
              <a:ext cx="41400" cy="457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503440" y="4697280"/>
              <a:ext cx="14148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H="1" flipV="1">
              <a:off x="2517840" y="4713120"/>
              <a:ext cx="410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558880" y="4759200"/>
              <a:ext cx="4320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H="1">
              <a:off x="2517840" y="4759200"/>
              <a:ext cx="410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V="1">
              <a:off x="2558880" y="4713120"/>
              <a:ext cx="4320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558880" y="4697280"/>
              <a:ext cx="14292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H="1" flipV="1">
              <a:off x="2572920" y="47131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616120" y="475920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2572920" y="475920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V="1">
              <a:off x="2616120" y="47131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616120" y="468144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 flipV="1">
              <a:off x="2630160" y="469692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673360" y="47451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H="1">
              <a:off x="2630160" y="47451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V="1">
              <a:off x="2673360" y="469692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673360" y="468144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H="1" flipV="1">
              <a:off x="2687400" y="469692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730600" y="47451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H="1">
              <a:off x="2687400" y="47451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V="1">
              <a:off x="2730600" y="469692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716200" y="4651200"/>
              <a:ext cx="14292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 flipV="1">
              <a:off x="2730240" y="4667040"/>
              <a:ext cx="42840" cy="457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773440" y="47131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H="1">
              <a:off x="2730240" y="47131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V="1">
              <a:off x="2773440" y="4667040"/>
              <a:ext cx="42840" cy="457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773440" y="4589640"/>
              <a:ext cx="1411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H="1" flipV="1">
              <a:off x="2787480" y="4603680"/>
              <a:ext cx="4320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830680" y="46512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>
              <a:off x="2787480" y="4651200"/>
              <a:ext cx="4320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V="1">
              <a:off x="2830680" y="460368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830680" y="4541760"/>
              <a:ext cx="1411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H="1" flipV="1">
              <a:off x="2844360" y="4557600"/>
              <a:ext cx="4140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886120" y="460368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>
              <a:off x="2844360" y="4603680"/>
              <a:ext cx="4140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V="1">
              <a:off x="2886120" y="45576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886120" y="441792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 flipV="1">
              <a:off x="2900160" y="44337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943360" y="44798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H="1">
              <a:off x="2900160" y="44798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V="1">
              <a:off x="2943360" y="44337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943360" y="424656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H="1" flipV="1">
              <a:off x="2957040" y="42624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000240" y="430848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H="1">
              <a:off x="2957040" y="430848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V="1">
              <a:off x="3000240" y="42624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000240" y="427824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H="1" flipV="1">
              <a:off x="3014280" y="429408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057480" y="43401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>
              <a:off x="3014280" y="43401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V="1">
              <a:off x="3057480" y="429408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057480" y="420048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 flipV="1">
              <a:off x="3071520" y="42163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114720" y="42624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3071520" y="42624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V="1">
              <a:off x="3114720" y="42163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114720" y="4029120"/>
              <a:ext cx="1411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H="1" flipV="1">
              <a:off x="3128760" y="40449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171960" y="409104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3128760" y="409104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V="1">
              <a:off x="3171960" y="40449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157560" y="4029120"/>
              <a:ext cx="1411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H="1" flipV="1">
              <a:off x="3171600" y="40449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214800" y="4091040"/>
              <a:ext cx="410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3171600" y="409104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3214800" y="4044960"/>
              <a:ext cx="410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214800" y="4200480"/>
              <a:ext cx="1411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H="1" flipV="1">
              <a:off x="3227040" y="42163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270240" y="42624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H="1">
              <a:off x="3227040" y="42624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3270240" y="42163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270240" y="410688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H="1" flipV="1">
              <a:off x="3284280" y="41227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327480" y="416880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H="1">
              <a:off x="3284280" y="416880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V="1">
              <a:off x="3327480" y="41227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327480" y="398304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H="1" flipV="1">
              <a:off x="3341520" y="3998880"/>
              <a:ext cx="4320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384720" y="40449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3341520" y="4044960"/>
              <a:ext cx="4320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V="1">
              <a:off x="3384720" y="399888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384720" y="3951360"/>
              <a:ext cx="14256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 flipV="1">
              <a:off x="3398400" y="39672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441600" y="401328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H="1">
              <a:off x="3398400" y="401328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V="1">
              <a:off x="3441600" y="39672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7" name=""/>
          <p:cNvGrpSpPr/>
          <p:nvPr/>
        </p:nvGrpSpPr>
        <p:grpSpPr>
          <a:xfrm>
            <a:off x="3441600" y="4060800"/>
            <a:ext cx="2289240" cy="714240"/>
            <a:chOff x="3441600" y="4060800"/>
            <a:chExt cx="2289240" cy="714240"/>
          </a:xfrm>
        </p:grpSpPr>
        <p:sp>
          <p:nvSpPr>
            <p:cNvPr id="1408" name=""/>
            <p:cNvSpPr/>
            <p:nvPr/>
          </p:nvSpPr>
          <p:spPr>
            <a:xfrm>
              <a:off x="3441600" y="4168800"/>
              <a:ext cx="1414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 flipV="1">
              <a:off x="3455640" y="41846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498840" y="423072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H="1">
              <a:off x="3455640" y="423072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3498840" y="41846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498840" y="4122720"/>
              <a:ext cx="1411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H="1" flipV="1">
              <a:off x="3512880" y="41385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556080" y="4184640"/>
              <a:ext cx="410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3512880" y="41846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V="1">
              <a:off x="3556080" y="4138560"/>
              <a:ext cx="410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556080" y="4091040"/>
              <a:ext cx="1411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 flipV="1">
              <a:off x="3568320" y="410688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611520" y="415296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3568320" y="415296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V="1">
              <a:off x="3611520" y="410688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611520" y="406080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H="1" flipV="1">
              <a:off x="3625560" y="40766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668760" y="41227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H="1">
              <a:off x="3625560" y="41227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V="1">
              <a:off x="3668760" y="40766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3654360" y="421632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 flipV="1">
              <a:off x="3668400" y="423072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3711600" y="42782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H="1">
              <a:off x="3668400" y="42782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3711600" y="423072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3711600" y="421632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 flipV="1">
              <a:off x="3725640" y="423072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3768840" y="42782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3725640" y="42782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V="1">
              <a:off x="3768840" y="423072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768840" y="4371840"/>
              <a:ext cx="14112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H="1" flipV="1">
              <a:off x="3782520" y="438624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825720" y="44337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3782520" y="44337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V="1">
              <a:off x="3825720" y="438624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825720" y="4356000"/>
              <a:ext cx="1414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 flipV="1">
              <a:off x="3839760" y="43718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882960" y="4417920"/>
              <a:ext cx="4140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3839760" y="44179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V="1">
              <a:off x="3882960" y="4371840"/>
              <a:ext cx="4140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882960" y="4278240"/>
              <a:ext cx="1414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H="1" flipV="1">
              <a:off x="3895560" y="4294080"/>
              <a:ext cx="4320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938760" y="43401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3895560" y="4340160"/>
              <a:ext cx="4320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V="1">
              <a:off x="3938760" y="429408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938760" y="4294080"/>
              <a:ext cx="14256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H="1" flipV="1">
              <a:off x="3952440" y="430848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3995640" y="43560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>
              <a:off x="3952440" y="43560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>
              <a:off x="3995640" y="430848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995640" y="424656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 flipV="1">
              <a:off x="4009680" y="42624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052880" y="430848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4009680" y="430848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V="1">
              <a:off x="4052880" y="42624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052880" y="432432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H="1" flipV="1">
              <a:off x="4066920" y="43401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110120" y="438624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4066920" y="438624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V="1">
              <a:off x="4110120" y="43401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110120" y="4246560"/>
              <a:ext cx="1411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H="1" flipV="1">
              <a:off x="4124160" y="4262400"/>
              <a:ext cx="4320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167360" y="430848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H="1">
              <a:off x="4124160" y="4308480"/>
              <a:ext cx="4320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V="1">
              <a:off x="4167360" y="42624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152960" y="4356000"/>
              <a:ext cx="1411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 flipV="1">
              <a:off x="4167000" y="43718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210200" y="4417920"/>
              <a:ext cx="410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H="1">
              <a:off x="4167000" y="44179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V="1">
              <a:off x="4210200" y="4371840"/>
              <a:ext cx="410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210200" y="4356000"/>
              <a:ext cx="1411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H="1" flipV="1">
              <a:off x="4223880" y="4371840"/>
              <a:ext cx="4140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265640" y="44179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H="1">
              <a:off x="4223880" y="4417920"/>
              <a:ext cx="4140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V="1">
              <a:off x="4265640" y="43718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265640" y="440208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H="1" flipV="1">
              <a:off x="4279680" y="44179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322880" y="446400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H="1">
              <a:off x="4279680" y="446400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V="1">
              <a:off x="4322880" y="44179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322880" y="438624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H="1" flipV="1">
              <a:off x="4336560" y="440208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379760" y="444816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H="1">
              <a:off x="4336560" y="444816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V="1">
              <a:off x="4379760" y="440208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379760" y="444816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H="1" flipV="1">
              <a:off x="4393800" y="446400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437000" y="45115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H="1">
              <a:off x="4393800" y="45115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 flipV="1">
              <a:off x="4437000" y="446400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437000" y="4448160"/>
              <a:ext cx="1414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 flipV="1">
              <a:off x="4451040" y="446400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494240" y="45115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H="1">
              <a:off x="4451040" y="45115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 flipV="1">
              <a:off x="4494240" y="446400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494240" y="4448160"/>
              <a:ext cx="1411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 flipV="1">
              <a:off x="4508280" y="446400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551480" y="4511520"/>
              <a:ext cx="410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4508280" y="451152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V="1">
              <a:off x="4551480" y="4464000"/>
              <a:ext cx="410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551480" y="4525920"/>
              <a:ext cx="1411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 flipV="1">
              <a:off x="4565160" y="4541400"/>
              <a:ext cx="4140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606920" y="4589640"/>
              <a:ext cx="42840" cy="457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H="1">
              <a:off x="4565160" y="4589640"/>
              <a:ext cx="41400" cy="457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V="1">
              <a:off x="4606920" y="454140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592520" y="454176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 flipV="1">
              <a:off x="4606560" y="45576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649760" y="460368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>
              <a:off x="4606560" y="460368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V="1">
              <a:off x="4649760" y="45576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649760" y="455760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H="1" flipV="1">
              <a:off x="4663800" y="45734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707000" y="461952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H="1">
              <a:off x="4663800" y="461952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V="1">
              <a:off x="4707000" y="45734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707000" y="454176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 flipV="1">
              <a:off x="4721040" y="45576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764240" y="460368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4721040" y="460368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V="1">
              <a:off x="4764240" y="45576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764240" y="4541760"/>
              <a:ext cx="14256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 flipV="1">
              <a:off x="4777920" y="45576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821120" y="460368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>
              <a:off x="4777920" y="460368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V="1">
              <a:off x="4821120" y="45576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821120" y="4525920"/>
              <a:ext cx="1414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 flipV="1">
              <a:off x="4835160" y="454140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878360" y="4589640"/>
              <a:ext cx="41400" cy="457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4835160" y="4589640"/>
              <a:ext cx="42840" cy="457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V="1">
              <a:off x="4878360" y="4541400"/>
              <a:ext cx="4140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878360" y="4557600"/>
              <a:ext cx="1414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 flipV="1">
              <a:off x="4892760" y="4573440"/>
              <a:ext cx="410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933800" y="461952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H="1">
              <a:off x="4892760" y="4619520"/>
              <a:ext cx="410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V="1">
              <a:off x="4933800" y="45734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933800" y="4573440"/>
              <a:ext cx="14292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H="1" flipV="1">
              <a:off x="4947840" y="4589280"/>
              <a:ext cx="42840" cy="457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991040" y="46353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4947840" y="46353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 flipV="1">
              <a:off x="4991040" y="4589280"/>
              <a:ext cx="42840" cy="457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991040" y="461952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 flipV="1">
              <a:off x="5005080" y="46353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5048280" y="468144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H="1">
              <a:off x="5005080" y="468144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V="1">
              <a:off x="5048280" y="463536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048280" y="458964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H="1" flipV="1">
              <a:off x="5062320" y="460368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105520" y="46512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>
              <a:off x="5062320" y="46512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V="1">
              <a:off x="5105520" y="460368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091120" y="454176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flipH="1" flipV="1">
              <a:off x="5105160" y="45576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148360" y="460368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H="1">
              <a:off x="5105160" y="460368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V="1">
              <a:off x="5148360" y="45576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148360" y="4433760"/>
              <a:ext cx="14112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H="1" flipV="1">
              <a:off x="5162040" y="444816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205240" y="4495680"/>
              <a:ext cx="4320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H="1">
              <a:off x="5162040" y="449568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V="1">
              <a:off x="5205240" y="4448160"/>
              <a:ext cx="4320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205240" y="4464000"/>
              <a:ext cx="1414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 flipV="1">
              <a:off x="5219280" y="4479840"/>
              <a:ext cx="4140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261040" y="452592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H="1">
              <a:off x="5219280" y="4525920"/>
              <a:ext cx="4140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V="1">
              <a:off x="5261040" y="44798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261040" y="430848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 flipV="1">
              <a:off x="5275080" y="432432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318280" y="43718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5275080" y="43718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V="1">
              <a:off x="5318280" y="432432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5318280" y="4262400"/>
              <a:ext cx="14256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H="1" flipV="1">
              <a:off x="5331960" y="42782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375160" y="432432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>
              <a:off x="5331960" y="432432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V="1">
              <a:off x="5375160" y="42782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375160" y="434016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H="1" flipV="1">
              <a:off x="5389200" y="43560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432400" y="440208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H="1">
              <a:off x="5389200" y="440208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V="1">
              <a:off x="5432400" y="435600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432400" y="430848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H="1" flipV="1">
              <a:off x="5446440" y="432432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489640" y="43718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H="1">
              <a:off x="5446440" y="43718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V="1">
              <a:off x="5489640" y="4324320"/>
              <a:ext cx="42840" cy="475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489640" y="4525920"/>
              <a:ext cx="1411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H="1" flipV="1">
              <a:off x="5503680" y="454140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5546880" y="4589640"/>
              <a:ext cx="41040" cy="457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H="1">
              <a:off x="5503680" y="4589640"/>
              <a:ext cx="42840" cy="4572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V="1">
              <a:off x="5546880" y="4541400"/>
              <a:ext cx="410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546880" y="4557600"/>
              <a:ext cx="1411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H="1" flipV="1">
              <a:off x="5560560" y="4573440"/>
              <a:ext cx="4140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602320" y="461952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>
              <a:off x="5560560" y="4619520"/>
              <a:ext cx="4140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V="1">
              <a:off x="5602320" y="45734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5587920" y="4557600"/>
              <a:ext cx="1429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H="1" flipV="1">
              <a:off x="5601960" y="45734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645160" y="461952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H="1">
              <a:off x="5601960" y="4619520"/>
              <a:ext cx="42840" cy="478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V="1">
              <a:off x="5645160" y="4573440"/>
              <a:ext cx="42840" cy="4608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8" name=""/>
          <p:cNvSpPr/>
          <p:nvPr/>
        </p:nvSpPr>
        <p:spPr>
          <a:xfrm>
            <a:off x="5645160" y="4386240"/>
            <a:ext cx="1429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 flipH="1" flipV="1">
            <a:off x="5659200" y="440208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5702400" y="4448160"/>
            <a:ext cx="42840" cy="4752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5659200" y="4448160"/>
            <a:ext cx="42840" cy="4752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 flipV="1">
            <a:off x="5702400" y="440208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702400" y="4402080"/>
            <a:ext cx="1429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H="1" flipV="1">
            <a:off x="5716080" y="441792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759280" y="4464000"/>
            <a:ext cx="43200" cy="4752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H="1">
            <a:off x="5716080" y="4464000"/>
            <a:ext cx="42840" cy="4752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V="1">
            <a:off x="5759280" y="4417920"/>
            <a:ext cx="4320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5759280" y="4511520"/>
            <a:ext cx="14292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 flipH="1" flipV="1">
            <a:off x="5773320" y="4525920"/>
            <a:ext cx="42840" cy="4752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5816520" y="457344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 flipH="1">
            <a:off x="5773320" y="457344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 flipV="1">
            <a:off x="5816520" y="4525920"/>
            <a:ext cx="42840" cy="4752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5816520" y="4589640"/>
            <a:ext cx="1414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 flipH="1" flipV="1">
            <a:off x="5830560" y="4603680"/>
            <a:ext cx="42840" cy="4752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873760" y="465120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 flipH="1">
            <a:off x="5830560" y="465120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 flipV="1">
            <a:off x="5873760" y="4603680"/>
            <a:ext cx="42840" cy="4752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5873760" y="4308480"/>
            <a:ext cx="1411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 flipH="1" flipV="1">
            <a:off x="5888160" y="4324320"/>
            <a:ext cx="41040" cy="4752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5929200" y="437184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 flipH="1">
            <a:off x="5888160" y="4371840"/>
            <a:ext cx="410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 flipV="1">
            <a:off x="5929200" y="4324320"/>
            <a:ext cx="42840" cy="4752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929200" y="4340160"/>
            <a:ext cx="1429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 flipV="1">
            <a:off x="5943240" y="435600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5986440" y="440208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 flipH="1">
            <a:off x="5943240" y="440208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V="1">
            <a:off x="5986440" y="435600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986440" y="4448160"/>
            <a:ext cx="1429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H="1" flipV="1">
            <a:off x="6000480" y="4464000"/>
            <a:ext cx="42840" cy="4752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6043680" y="451152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H="1">
            <a:off x="6000480" y="451152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flipV="1">
            <a:off x="6043680" y="4464000"/>
            <a:ext cx="42840" cy="4752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043680" y="4589640"/>
            <a:ext cx="1429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 flipH="1" flipV="1">
            <a:off x="6057720" y="4603680"/>
            <a:ext cx="42840" cy="4752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100920" y="465120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 flipH="1">
            <a:off x="6057720" y="465120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 flipV="1">
            <a:off x="6100920" y="4603680"/>
            <a:ext cx="42840" cy="4752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086520" y="4495680"/>
            <a:ext cx="1429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 flipH="1" flipV="1">
            <a:off x="6100560" y="451152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143760" y="455760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 flipH="1">
            <a:off x="6100560" y="455760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 flipV="1">
            <a:off x="6143760" y="451152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6143760" y="4573440"/>
            <a:ext cx="14112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 flipH="1" flipV="1">
            <a:off x="6157440" y="4589280"/>
            <a:ext cx="42840" cy="4572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200640" y="463536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 flipH="1">
            <a:off x="6157440" y="463536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 flipV="1">
            <a:off x="6200640" y="4589280"/>
            <a:ext cx="42840" cy="4572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6200640" y="4573440"/>
            <a:ext cx="14148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H="1" flipV="1">
            <a:off x="6214680" y="4589280"/>
            <a:ext cx="42840" cy="4572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257880" y="4635360"/>
            <a:ext cx="4140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 flipH="1">
            <a:off x="6214680" y="463536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V="1">
            <a:off x="6257880" y="4589280"/>
            <a:ext cx="41400" cy="4572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6257880" y="4619520"/>
            <a:ext cx="1414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 flipH="1" flipV="1">
            <a:off x="6270120" y="463536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313320" y="4681440"/>
            <a:ext cx="43200" cy="478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 flipH="1">
            <a:off x="6270120" y="4681440"/>
            <a:ext cx="42840" cy="478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 flipV="1">
            <a:off x="6313320" y="4635360"/>
            <a:ext cx="4320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1744200" y="1635120"/>
            <a:ext cx="5711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lancing market prices, March 7, 2009, $/MW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152640" y="6308640"/>
            <a:ext cx="68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$5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52640" y="5784840"/>
            <a:ext cx="68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$3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52640" y="5241960"/>
            <a:ext cx="68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$1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228600" y="47131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228600" y="41846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3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228600" y="365616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5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228600" y="31129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7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228600" y="25844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9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 rot="16200000">
            <a:off x="874800" y="530100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: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 rot="16200000">
            <a:off x="1202040" y="530100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: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 rot="16200000">
            <a:off x="1543320" y="530100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: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 rot="16200000">
            <a:off x="1870200" y="530100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: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rot="16200000">
            <a:off x="2197440" y="530100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: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rot="16200000">
            <a:off x="2538720" y="530100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: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 rot="16200000">
            <a:off x="2865600" y="530100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: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rot="16200000">
            <a:off x="3136320" y="53611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: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rot="16200000">
            <a:off x="3463200" y="53611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: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 rot="16200000">
            <a:off x="3804480" y="53611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: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rot="16200000">
            <a:off x="4131720" y="53611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: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rot="16200000">
            <a:off x="4458600" y="53611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: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 rot="16200000">
            <a:off x="4799880" y="53611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: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 rot="16200000">
            <a:off x="5126760" y="53611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: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rot="16200000">
            <a:off x="5454000" y="53611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: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 rot="16200000">
            <a:off x="5795280" y="53611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: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499080" y="3781440"/>
            <a:ext cx="2502000" cy="1320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6570720" y="3967200"/>
            <a:ext cx="382680" cy="1440"/>
          </a:xfrm>
          <a:prstGeom prst="line">
            <a:avLst/>
          </a:prstGeom>
          <a:ln w="144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6711840" y="3921120"/>
            <a:ext cx="85680" cy="92160"/>
          </a:xfrm>
          <a:custGeom>
            <a:avLst/>
            <a:gdLst/>
            <a:ahLst/>
            <a:rect l="l" t="t" r="r" b="b"/>
            <a:pathLst>
              <a:path w="54" h="58">
                <a:moveTo>
                  <a:pt x="27" y="0"/>
                </a:moveTo>
                <a:lnTo>
                  <a:pt x="54" y="29"/>
                </a:lnTo>
                <a:lnTo>
                  <a:pt x="27" y="58"/>
                </a:lnTo>
                <a:lnTo>
                  <a:pt x="0" y="29"/>
                </a:lnTo>
                <a:lnTo>
                  <a:pt x="27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6998040" y="3827520"/>
            <a:ext cx="1599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th zone 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6570720" y="4294080"/>
            <a:ext cx="382680" cy="1800"/>
          </a:xfrm>
          <a:prstGeom prst="line">
            <a:avLst/>
          </a:prstGeom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6711840" y="4246560"/>
            <a:ext cx="85680" cy="93600"/>
          </a:xfrm>
          <a:prstGeom prst="rect">
            <a:avLst/>
          </a:prstGeom>
          <a:solidFill>
            <a:srgbClr val="ff00ff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998040" y="4152960"/>
            <a:ext cx="163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th zone 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570720" y="4619520"/>
            <a:ext cx="382680" cy="1800"/>
          </a:xfrm>
          <a:prstGeom prst="line">
            <a:avLst/>
          </a:prstGeom>
          <a:ln w="14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6711840" y="4573440"/>
            <a:ext cx="85680" cy="93960"/>
          </a:xfrm>
          <a:custGeom>
            <a:avLst/>
            <a:gdLst/>
            <a:ahLst/>
            <a:rect l="l" t="t" r="r" b="b"/>
            <a:pathLst>
              <a:path w="54" h="59">
                <a:moveTo>
                  <a:pt x="27" y="0"/>
                </a:moveTo>
                <a:lnTo>
                  <a:pt x="54" y="59"/>
                </a:lnTo>
                <a:lnTo>
                  <a:pt x="0" y="59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144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997680" y="4479840"/>
            <a:ext cx="154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st zone 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570720" y="4946760"/>
            <a:ext cx="382680" cy="144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697800" y="4884840"/>
            <a:ext cx="1425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 flipH="1" flipV="1">
            <a:off x="6711480" y="4898520"/>
            <a:ext cx="42840" cy="478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6754680" y="494676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 flipH="1">
            <a:off x="6711480" y="4946760"/>
            <a:ext cx="42840" cy="460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 flipV="1">
            <a:off x="6754680" y="4898520"/>
            <a:ext cx="42840" cy="4788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998400" y="4807080"/>
            <a:ext cx="18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uston zone 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0" y="1527120"/>
            <a:ext cx="8986680" cy="53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Transmission price risk.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ces in zonal (or nodal) prices represent the (short-term) opportunity cost to transmit power from one location to another in limited 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nsmission constraints bind, opportunity cost (and therefore transmission price) can be high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high as $40/MWh or more from West zone to demand centers in ERCO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k of high transmission prices can be hedged by financial instruments issued by ISO (but purchase price for financial instruments reflects average expected values of prices being hedg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Transmission price risk.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longer-term, investment in transmission increases capacity to transmit power and reduces short-term transmission pri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rinciple, socially optimal investment to bring energy from remote generation resources would trade-off the cost of new transmission against production cost savings (possibly including cost of greenhouse emissions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ractice, production cost savings can only be roughly estimated from offers, and transmission planning may be driven by many goal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Transmission price risk.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 tends to be far from deman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ssion constraints often limit transfers from wind to demand centers, as in West zone wind in ERCO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ssion capacity increases require considerable invest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COT “competitive renewable energy zones” involve about $5 billion in transmission investment for increase in capacity of 11 GW from We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ely $10/MWh average cos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Wind and demand correlation.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s when transmission upgrades are completed and more wind is buil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ch more wind power will be produce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West Texas wind is anti-correlated with ERCOT deman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 tends to blow more in Winter, Spring, and Fall than Summer and more during off-peak hours than on-pe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Wind and demand correlation.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-peak wind production tends to decrease need for thermal generation off-pea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ain, if there is intense competition off-peak, prices may be set negative by w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s with recent experience in ERCOT balancing mark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s transfer from Federal taxpayers to market for taking wind power at unfavor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im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1" name=""/>
          <p:cNvGrpSpPr/>
          <p:nvPr/>
        </p:nvGrpSpPr>
        <p:grpSpPr>
          <a:xfrm>
            <a:off x="0" y="1371600"/>
            <a:ext cx="9143640" cy="5486040"/>
            <a:chOff x="0" y="1371600"/>
            <a:chExt cx="9143640" cy="5486040"/>
          </a:xfrm>
        </p:grpSpPr>
        <p:grpSp>
          <p:nvGrpSpPr>
            <p:cNvPr id="1722" name=""/>
            <p:cNvGrpSpPr/>
            <p:nvPr/>
          </p:nvGrpSpPr>
          <p:grpSpPr>
            <a:xfrm>
              <a:off x="0" y="1371600"/>
              <a:ext cx="9143280" cy="5485680"/>
              <a:chOff x="0" y="1371600"/>
              <a:chExt cx="9143280" cy="5485680"/>
            </a:xfrm>
          </p:grpSpPr>
          <p:sp>
            <p:nvSpPr>
              <p:cNvPr id="1723" name=""/>
              <p:cNvSpPr/>
              <p:nvPr/>
            </p:nvSpPr>
            <p:spPr>
              <a:xfrm>
                <a:off x="0" y="1371600"/>
                <a:ext cx="9143280" cy="5485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1037880" y="1735560"/>
                <a:ext cx="5190120" cy="4739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1037880" y="6475320"/>
                <a:ext cx="519012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037880" y="5850720"/>
                <a:ext cx="519012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1037880" y="5208120"/>
                <a:ext cx="519012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1037880" y="4582800"/>
                <a:ext cx="519012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1037880" y="3940560"/>
                <a:ext cx="519012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037880" y="3315600"/>
                <a:ext cx="519012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1037880" y="2690280"/>
                <a:ext cx="519012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1037880" y="2048040"/>
                <a:ext cx="519012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1037880" y="1735560"/>
                <a:ext cx="5190120" cy="47394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1037880" y="1735560"/>
                <a:ext cx="2160" cy="4739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976680" y="6475320"/>
                <a:ext cx="6084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976680" y="5850720"/>
                <a:ext cx="6084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976680" y="5208120"/>
                <a:ext cx="6084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976680" y="4582800"/>
                <a:ext cx="6084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976680" y="3940560"/>
                <a:ext cx="6084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976680" y="3315600"/>
                <a:ext cx="6084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976680" y="2690280"/>
                <a:ext cx="6084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976680" y="2048040"/>
                <a:ext cx="6084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1037880" y="4895640"/>
                <a:ext cx="519012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 flipV="1">
                <a:off x="103788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flipV="1">
                <a:off x="109908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 flipV="1">
                <a:off x="114444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V="1">
                <a:off x="120564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 flipV="1">
                <a:off x="125136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flipV="1">
                <a:off x="131220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 flipV="1">
                <a:off x="135792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V="1">
                <a:off x="141912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flipV="1">
                <a:off x="146520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 flipV="1">
                <a:off x="152568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 flipV="1">
                <a:off x="157212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 flipV="1">
                <a:off x="163332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flipV="1">
                <a:off x="169380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 flipV="1">
                <a:off x="173988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 flipV="1">
                <a:off x="180108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 flipV="1">
                <a:off x="184680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flipV="1">
                <a:off x="190764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flipV="1">
                <a:off x="195336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V="1">
                <a:off x="201456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 flipV="1">
                <a:off x="205992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 flipV="1">
                <a:off x="212112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 flipV="1">
                <a:off x="216756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 flipV="1">
                <a:off x="222804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flipV="1">
                <a:off x="227412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 flipV="1">
                <a:off x="233532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 flipV="1">
                <a:off x="239580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 flipV="1">
                <a:off x="244188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 flipV="1">
                <a:off x="250308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 flipV="1">
                <a:off x="254880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flipV="1">
                <a:off x="261000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 flipV="1">
                <a:off x="265536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 flipV="1">
                <a:off x="271656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 flipV="1">
                <a:off x="276228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 flipV="1">
                <a:off x="282348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 flipV="1">
                <a:off x="286956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 flipV="1">
                <a:off x="293076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 flipV="1">
                <a:off x="299124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 flipV="1">
                <a:off x="303732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 flipV="1">
                <a:off x="309852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 flipV="1">
                <a:off x="314424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flipV="1">
                <a:off x="320544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 flipV="1">
                <a:off x="325080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 flipV="1">
                <a:off x="331200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 flipV="1">
                <a:off x="335772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flipV="1">
                <a:off x="341892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 flipV="1">
                <a:off x="346500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flipV="1">
                <a:off x="352548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 flipV="1">
                <a:off x="357156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 flipV="1">
                <a:off x="363276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 flipV="1">
                <a:off x="369360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flipV="1">
                <a:off x="373968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 flipV="1">
                <a:off x="380088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flipV="1">
                <a:off x="384624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 flipV="1">
                <a:off x="390744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 flipV="1">
                <a:off x="395316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flipV="1">
                <a:off x="401436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 flipV="1">
                <a:off x="405972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 flipV="1">
                <a:off x="412092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 flipV="1">
                <a:off x="416700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flipV="1">
                <a:off x="422784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 flipV="1">
                <a:off x="428868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 flipV="1">
                <a:off x="433512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 flipV="1">
                <a:off x="439632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 flipV="1">
                <a:off x="444168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 flipV="1">
                <a:off x="450288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 flipV="1">
                <a:off x="454860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 flipV="1">
                <a:off x="460944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V="1">
                <a:off x="465516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 flipV="1">
                <a:off x="471636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flipV="1">
                <a:off x="476244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flipV="1">
                <a:off x="482292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flipV="1">
                <a:off x="486936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flipV="1">
                <a:off x="493056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 flipV="1">
                <a:off x="499104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 flipV="1">
                <a:off x="503712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 flipV="1">
                <a:off x="509832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V="1">
                <a:off x="514404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V="1">
                <a:off x="520488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V="1">
                <a:off x="525060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V="1">
                <a:off x="531180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V="1">
                <a:off x="535716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V="1">
                <a:off x="541836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flipV="1">
                <a:off x="546480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 flipV="1">
                <a:off x="552528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flipV="1">
                <a:off x="558648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 flipV="1">
                <a:off x="563256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flipV="1">
                <a:off x="569304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flipV="1">
                <a:off x="573912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flipV="1">
                <a:off x="580032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 flipV="1">
                <a:off x="584604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 flipV="1">
                <a:off x="590724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 flipV="1">
                <a:off x="595260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 flipV="1">
                <a:off x="601380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flipV="1">
                <a:off x="605952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flipV="1">
                <a:off x="6120720" y="4895280"/>
                <a:ext cx="288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flipV="1">
                <a:off x="616680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 flipV="1">
                <a:off x="6228000" y="4895280"/>
                <a:ext cx="2160" cy="6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1068480" y="4270320"/>
                <a:ext cx="45360" cy="2257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1113840" y="4496040"/>
                <a:ext cx="60840" cy="25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1175040" y="4496040"/>
                <a:ext cx="45360" cy="2084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flipV="1">
                <a:off x="1220760" y="4686840"/>
                <a:ext cx="60840" cy="176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flipV="1">
                <a:off x="1281960" y="4426200"/>
                <a:ext cx="45360" cy="2602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1327320" y="4426560"/>
                <a:ext cx="60840" cy="121500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flipV="1">
                <a:off x="1388520" y="4912560"/>
                <a:ext cx="60840" cy="72900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1449720" y="4912920"/>
                <a:ext cx="45360" cy="9892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flipV="1">
                <a:off x="1495440" y="5329080"/>
                <a:ext cx="60840" cy="57276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1556280" y="5329440"/>
                <a:ext cx="46080" cy="2602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1602720" y="5590080"/>
                <a:ext cx="60480" cy="514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V="1">
                <a:off x="1663200" y="5624640"/>
                <a:ext cx="46080" cy="169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1709280" y="5625000"/>
                <a:ext cx="60840" cy="694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1770480" y="5694480"/>
                <a:ext cx="45360" cy="25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1816200" y="5694480"/>
                <a:ext cx="60840" cy="25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 flipV="1">
                <a:off x="1877040" y="5641560"/>
                <a:ext cx="45360" cy="5220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1922760" y="5641920"/>
                <a:ext cx="60840" cy="176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 flipV="1">
                <a:off x="1983960" y="5606640"/>
                <a:ext cx="60840" cy="5220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 flipV="1">
                <a:off x="2045160" y="5520600"/>
                <a:ext cx="45360" cy="8640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2090520" y="5520600"/>
                <a:ext cx="60840" cy="8640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 flipV="1">
                <a:off x="2151720" y="5416200"/>
                <a:ext cx="46080" cy="19080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 flipV="1">
                <a:off x="2198160" y="4391640"/>
                <a:ext cx="60480" cy="102420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2258640" y="4392000"/>
                <a:ext cx="46080" cy="29520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flipV="1">
                <a:off x="2304720" y="4547880"/>
                <a:ext cx="60840" cy="13896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 flipV="1">
                <a:off x="2365920" y="4514040"/>
                <a:ext cx="45360" cy="338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flipV="1">
                <a:off x="2411280" y="4443840"/>
                <a:ext cx="60840" cy="694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 flipV="1">
                <a:off x="2472480" y="4409640"/>
                <a:ext cx="45360" cy="3456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2518200" y="4409640"/>
                <a:ext cx="60840" cy="1040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 flipV="1">
                <a:off x="2579400" y="4479120"/>
                <a:ext cx="45360" cy="3456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2624760" y="4479120"/>
                <a:ext cx="60840" cy="25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2685960" y="4479120"/>
                <a:ext cx="60840" cy="3456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 flipV="1">
                <a:off x="2747160" y="4495680"/>
                <a:ext cx="45360" cy="176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V="1">
                <a:off x="2792880" y="4461480"/>
                <a:ext cx="60840" cy="3456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 flipV="1">
                <a:off x="2854080" y="4409280"/>
                <a:ext cx="46080" cy="514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2900160" y="4409640"/>
                <a:ext cx="60480" cy="25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2960640" y="4409640"/>
                <a:ext cx="46080" cy="25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3006720" y="4409640"/>
                <a:ext cx="60840" cy="25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 flipV="1">
                <a:off x="3067920" y="4391640"/>
                <a:ext cx="45360" cy="176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 flipV="1">
                <a:off x="3113640" y="4374360"/>
                <a:ext cx="60840" cy="169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 flipV="1">
                <a:off x="3174840" y="4322520"/>
                <a:ext cx="45360" cy="514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3220200" y="4322880"/>
                <a:ext cx="60840" cy="25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 flipV="1">
                <a:off x="3281400" y="4235760"/>
                <a:ext cx="60840" cy="871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342600" y="4235760"/>
                <a:ext cx="45360" cy="32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3388320" y="4235760"/>
                <a:ext cx="60840" cy="871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3449520" y="4322880"/>
                <a:ext cx="45360" cy="25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3494880" y="4322880"/>
                <a:ext cx="60840" cy="25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3556080" y="4322880"/>
                <a:ext cx="46080" cy="25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3602160" y="4322880"/>
                <a:ext cx="60840" cy="25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 flipV="1">
                <a:off x="3663360" y="4304880"/>
                <a:ext cx="45360" cy="176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 flipV="1">
                <a:off x="3709080" y="4235400"/>
                <a:ext cx="60840" cy="694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V="1">
                <a:off x="3770280" y="4165920"/>
                <a:ext cx="45360" cy="694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3815640" y="4166280"/>
                <a:ext cx="60840" cy="3456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 flipV="1">
                <a:off x="3876840" y="4131000"/>
                <a:ext cx="45360" cy="694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 flipV="1">
                <a:off x="3922560" y="4062240"/>
                <a:ext cx="60840" cy="6876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 flipV="1">
                <a:off x="3983760" y="4027680"/>
                <a:ext cx="60840" cy="3456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4044960" y="4027680"/>
                <a:ext cx="45360" cy="17316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 flipV="1">
                <a:off x="4090320" y="3974760"/>
                <a:ext cx="60840" cy="2257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 flipV="1">
                <a:off x="4151520" y="3888720"/>
                <a:ext cx="46080" cy="8640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 flipV="1">
                <a:off x="4197600" y="3871080"/>
                <a:ext cx="60480" cy="169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4258080" y="3871440"/>
                <a:ext cx="46080" cy="6876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 flipV="1">
                <a:off x="4304520" y="3871080"/>
                <a:ext cx="60840" cy="6876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 flipV="1">
                <a:off x="4365720" y="3836880"/>
                <a:ext cx="45360" cy="3456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4411080" y="3836880"/>
                <a:ext cx="60840" cy="25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4472280" y="3836880"/>
                <a:ext cx="45360" cy="25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 flipV="1">
                <a:off x="4518000" y="3818520"/>
                <a:ext cx="60840" cy="176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4579200" y="3818880"/>
                <a:ext cx="60840" cy="32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 flipV="1">
                <a:off x="4640040" y="3766680"/>
                <a:ext cx="45360" cy="514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4685760" y="3767040"/>
                <a:ext cx="60840" cy="19080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 flipV="1">
                <a:off x="4746960" y="3906000"/>
                <a:ext cx="45360" cy="514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4792680" y="3906360"/>
                <a:ext cx="60840" cy="25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4853520" y="3906360"/>
                <a:ext cx="46080" cy="169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 flipV="1">
                <a:off x="4899960" y="3818520"/>
                <a:ext cx="60480" cy="1040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4960440" y="3818880"/>
                <a:ext cx="46080" cy="176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5006520" y="3836880"/>
                <a:ext cx="60840" cy="1382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5067720" y="3975120"/>
                <a:ext cx="45360" cy="3456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5113440" y="4010040"/>
                <a:ext cx="60840" cy="13896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5174280" y="4149000"/>
                <a:ext cx="45360" cy="1040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5220000" y="4253400"/>
                <a:ext cx="60840" cy="25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5281200" y="4253400"/>
                <a:ext cx="60840" cy="3456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 flipV="1">
                <a:off x="5342400" y="4253400"/>
                <a:ext cx="45360" cy="3456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flipV="1">
                <a:off x="5387760" y="4218480"/>
                <a:ext cx="60840" cy="3456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flipV="1">
                <a:off x="5448960" y="3957840"/>
                <a:ext cx="46080" cy="2602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3" name=""/>
            <p:cNvGrpSpPr/>
            <p:nvPr/>
          </p:nvGrpSpPr>
          <p:grpSpPr>
            <a:xfrm>
              <a:off x="1068480" y="1683360"/>
              <a:ext cx="5128560" cy="4322880"/>
              <a:chOff x="1068480" y="1683360"/>
              <a:chExt cx="5128560" cy="4322880"/>
            </a:xfrm>
          </p:grpSpPr>
          <p:sp>
            <p:nvSpPr>
              <p:cNvPr id="1924" name=""/>
              <p:cNvSpPr/>
              <p:nvPr/>
            </p:nvSpPr>
            <p:spPr>
              <a:xfrm>
                <a:off x="5495040" y="3957840"/>
                <a:ext cx="60480" cy="169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 flipV="1">
                <a:off x="5555520" y="3905640"/>
                <a:ext cx="46080" cy="6876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5601600" y="3906000"/>
                <a:ext cx="60840" cy="1382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5662800" y="4044600"/>
                <a:ext cx="45360" cy="19080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5708520" y="4235400"/>
                <a:ext cx="60840" cy="176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 flipV="1">
                <a:off x="5769360" y="4009680"/>
                <a:ext cx="45360" cy="24336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5815080" y="4009680"/>
                <a:ext cx="60840" cy="5220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5876280" y="4062240"/>
                <a:ext cx="60840" cy="25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5937480" y="4062240"/>
                <a:ext cx="45360" cy="2257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 flipV="1">
                <a:off x="5982840" y="1683720"/>
                <a:ext cx="37800" cy="26042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6062040" y="1683720"/>
                <a:ext cx="27360" cy="223920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6089760" y="3922920"/>
                <a:ext cx="60840" cy="1558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6150960" y="4079160"/>
                <a:ext cx="46080" cy="2602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068480" y="4270320"/>
                <a:ext cx="45360" cy="225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113840" y="4496040"/>
                <a:ext cx="60840" cy="25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175040" y="4496040"/>
                <a:ext cx="45360" cy="2084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 flipV="1">
                <a:off x="1220760" y="4686480"/>
                <a:ext cx="60840" cy="176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 flipV="1">
                <a:off x="1281600" y="4426200"/>
                <a:ext cx="45360" cy="2602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1327320" y="4426560"/>
                <a:ext cx="60840" cy="121500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 flipV="1">
                <a:off x="1388520" y="4912200"/>
                <a:ext cx="60840" cy="72900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1449720" y="4912560"/>
                <a:ext cx="45360" cy="9892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 flipV="1">
                <a:off x="1495080" y="5329080"/>
                <a:ext cx="60840" cy="5727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1556280" y="5329440"/>
                <a:ext cx="46080" cy="2602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1602360" y="5589720"/>
                <a:ext cx="60480" cy="514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 flipV="1">
                <a:off x="1663200" y="5624280"/>
                <a:ext cx="46080" cy="169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1709280" y="5624640"/>
                <a:ext cx="60840" cy="694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1770480" y="5694120"/>
                <a:ext cx="45360" cy="25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1815840" y="5694120"/>
                <a:ext cx="60840" cy="25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 flipV="1">
                <a:off x="1877040" y="5641200"/>
                <a:ext cx="45360" cy="5220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1922760" y="5641560"/>
                <a:ext cx="60840" cy="176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 flipV="1">
                <a:off x="1983960" y="5606640"/>
                <a:ext cx="60840" cy="5220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V="1">
                <a:off x="2045160" y="5520240"/>
                <a:ext cx="45360" cy="8640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2090520" y="5520240"/>
                <a:ext cx="60840" cy="8640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flipV="1">
                <a:off x="2151720" y="5415840"/>
                <a:ext cx="46080" cy="19080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 flipV="1">
                <a:off x="2197800" y="4513680"/>
                <a:ext cx="60480" cy="9021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2258280" y="4513680"/>
                <a:ext cx="46080" cy="2595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 flipV="1">
                <a:off x="2304720" y="4669560"/>
                <a:ext cx="60840" cy="1033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 flipV="1">
                <a:off x="2365920" y="4600080"/>
                <a:ext cx="45360" cy="694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 flipV="1">
                <a:off x="2411280" y="4547520"/>
                <a:ext cx="60840" cy="5220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 flipV="1">
                <a:off x="2472480" y="4513680"/>
                <a:ext cx="45360" cy="338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518200" y="4513680"/>
                <a:ext cx="60840" cy="25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579040" y="4513680"/>
                <a:ext cx="45360" cy="169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2624760" y="4530600"/>
                <a:ext cx="60840" cy="25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2685960" y="4530600"/>
                <a:ext cx="60840" cy="169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2747160" y="4547880"/>
                <a:ext cx="45360" cy="345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 flipV="1">
                <a:off x="2792520" y="4547880"/>
                <a:ext cx="60840" cy="345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 flipV="1">
                <a:off x="2853720" y="4513680"/>
                <a:ext cx="46080" cy="338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 flipV="1">
                <a:off x="2899800" y="4460760"/>
                <a:ext cx="60480" cy="5220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flipV="1">
                <a:off x="2960640" y="4408920"/>
                <a:ext cx="46080" cy="514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006720" y="4409280"/>
                <a:ext cx="60840" cy="25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 flipV="1">
                <a:off x="3067920" y="4391280"/>
                <a:ext cx="45360" cy="176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 flipV="1">
                <a:off x="3113280" y="4374360"/>
                <a:ext cx="60840" cy="169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 flipV="1">
                <a:off x="3174480" y="4322520"/>
                <a:ext cx="45360" cy="514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3220200" y="4322880"/>
                <a:ext cx="60840" cy="25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flipV="1">
                <a:off x="3281400" y="4235400"/>
                <a:ext cx="60840" cy="871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3342600" y="4235400"/>
                <a:ext cx="45360" cy="32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3387960" y="4235400"/>
                <a:ext cx="60840" cy="871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3449160" y="4322880"/>
                <a:ext cx="45360" cy="25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3494880" y="4322880"/>
                <a:ext cx="60840" cy="25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3556080" y="4322880"/>
                <a:ext cx="46080" cy="25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3602160" y="4322880"/>
                <a:ext cx="60840" cy="25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 flipV="1">
                <a:off x="3663360" y="4304520"/>
                <a:ext cx="45360" cy="176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 flipV="1">
                <a:off x="3708720" y="4235040"/>
                <a:ext cx="60840" cy="694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 flipV="1">
                <a:off x="3769920" y="4165560"/>
                <a:ext cx="45360" cy="694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3815640" y="4165920"/>
                <a:ext cx="60840" cy="345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 flipV="1">
                <a:off x="3876840" y="4130640"/>
                <a:ext cx="45360" cy="694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 flipV="1">
                <a:off x="3922200" y="4061880"/>
                <a:ext cx="60840" cy="687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 flipV="1">
                <a:off x="3983400" y="4027320"/>
                <a:ext cx="60840" cy="345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4044600" y="4027320"/>
                <a:ext cx="45360" cy="1731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 flipV="1">
                <a:off x="4089960" y="3974400"/>
                <a:ext cx="60840" cy="225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 flipV="1">
                <a:off x="4151160" y="3888360"/>
                <a:ext cx="46080" cy="8640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 flipV="1">
                <a:off x="4197600" y="3870720"/>
                <a:ext cx="60480" cy="169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4258080" y="3871080"/>
                <a:ext cx="46080" cy="687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 flipV="1">
                <a:off x="4304160" y="3870720"/>
                <a:ext cx="60840" cy="687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 flipV="1">
                <a:off x="4365360" y="3836520"/>
                <a:ext cx="45360" cy="345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4410720" y="3836520"/>
                <a:ext cx="60840" cy="25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4471920" y="3836520"/>
                <a:ext cx="45360" cy="25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flipV="1">
                <a:off x="4517640" y="3818520"/>
                <a:ext cx="60840" cy="176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4578840" y="3818880"/>
                <a:ext cx="60840" cy="32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 flipV="1">
                <a:off x="4640040" y="3766680"/>
                <a:ext cx="45360" cy="514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4685400" y="3767040"/>
                <a:ext cx="60840" cy="19080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flipV="1">
                <a:off x="4746600" y="3905640"/>
                <a:ext cx="45360" cy="514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4792320" y="3906000"/>
                <a:ext cx="60840" cy="25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4853520" y="3906000"/>
                <a:ext cx="46080" cy="169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 flipV="1">
                <a:off x="4899600" y="3818520"/>
                <a:ext cx="60480" cy="104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4960080" y="3818880"/>
                <a:ext cx="46080" cy="176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006160" y="3836520"/>
                <a:ext cx="60840" cy="1382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067360" y="3974760"/>
                <a:ext cx="45360" cy="345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113080" y="4009680"/>
                <a:ext cx="60840" cy="1389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174280" y="4149000"/>
                <a:ext cx="45360" cy="1040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219640" y="4253040"/>
                <a:ext cx="60840" cy="25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280840" y="4253040"/>
                <a:ext cx="60840" cy="345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 flipV="1">
                <a:off x="5342040" y="4253040"/>
                <a:ext cx="45360" cy="345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flipV="1">
                <a:off x="5387760" y="4218480"/>
                <a:ext cx="60840" cy="345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flipV="1">
                <a:off x="5448600" y="4131000"/>
                <a:ext cx="46080" cy="871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5495040" y="4131000"/>
                <a:ext cx="60480" cy="176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flipV="1">
                <a:off x="5555520" y="4096800"/>
                <a:ext cx="46080" cy="514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5601600" y="4097160"/>
                <a:ext cx="60840" cy="1213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5662800" y="4218480"/>
                <a:ext cx="45360" cy="1558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5708520" y="4374720"/>
                <a:ext cx="60840" cy="345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flipV="1">
                <a:off x="5769360" y="4148640"/>
                <a:ext cx="45360" cy="2602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5815080" y="4149000"/>
                <a:ext cx="60840" cy="514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5876280" y="4200840"/>
                <a:ext cx="60840" cy="32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5937480" y="4200840"/>
                <a:ext cx="45360" cy="2084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flipV="1">
                <a:off x="5982840" y="1683360"/>
                <a:ext cx="37800" cy="272556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6062040" y="1683720"/>
                <a:ext cx="27360" cy="223920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6089760" y="3922920"/>
                <a:ext cx="60840" cy="1558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6150960" y="4079160"/>
                <a:ext cx="46080" cy="2602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1068480" y="4270320"/>
                <a:ext cx="45360" cy="2257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113840" y="4496040"/>
                <a:ext cx="60840" cy="25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1175040" y="4496040"/>
                <a:ext cx="45360" cy="2084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 flipV="1">
                <a:off x="1220760" y="4686480"/>
                <a:ext cx="60840" cy="176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 flipV="1">
                <a:off x="1281600" y="4426200"/>
                <a:ext cx="45360" cy="2602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1327320" y="4426560"/>
                <a:ext cx="60840" cy="12150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 flipV="1">
                <a:off x="1388520" y="4912200"/>
                <a:ext cx="60840" cy="7290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1449720" y="4912560"/>
                <a:ext cx="45360" cy="9892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 flipV="1">
                <a:off x="1495080" y="5329080"/>
                <a:ext cx="60840" cy="5727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1556280" y="5329440"/>
                <a:ext cx="46080" cy="2602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1602360" y="5589720"/>
                <a:ext cx="60480" cy="514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 flipV="1">
                <a:off x="1663200" y="5624280"/>
                <a:ext cx="46080" cy="169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1709280" y="5624640"/>
                <a:ext cx="60840" cy="694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1770480" y="5694120"/>
                <a:ext cx="45360" cy="25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1815840" y="5694120"/>
                <a:ext cx="60840" cy="25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 flipV="1">
                <a:off x="1877040" y="5641200"/>
                <a:ext cx="45360" cy="522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922760" y="5641560"/>
                <a:ext cx="60840" cy="176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 flipV="1">
                <a:off x="1983960" y="5606640"/>
                <a:ext cx="60840" cy="522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 flipV="1">
                <a:off x="2045160" y="5520240"/>
                <a:ext cx="45360" cy="864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090520" y="5520240"/>
                <a:ext cx="60840" cy="864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 flipV="1">
                <a:off x="2151720" y="5415840"/>
                <a:ext cx="46080" cy="190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2197800" y="5415840"/>
                <a:ext cx="60480" cy="2779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 flipV="1">
                <a:off x="2258280" y="5624280"/>
                <a:ext cx="46080" cy="694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2304720" y="5624640"/>
                <a:ext cx="60840" cy="2602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 flipV="1">
                <a:off x="2365920" y="5658840"/>
                <a:ext cx="45360" cy="2257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 flipV="1">
                <a:off x="2411280" y="5641200"/>
                <a:ext cx="60840" cy="176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 flipV="1">
                <a:off x="2472480" y="5624280"/>
                <a:ext cx="45360" cy="169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 flipV="1">
                <a:off x="2518200" y="4513320"/>
                <a:ext cx="60840" cy="11106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579040" y="4513680"/>
                <a:ext cx="45360" cy="3816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624760" y="4895640"/>
                <a:ext cx="60840" cy="687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 flipV="1">
                <a:off x="2685960" y="4895280"/>
                <a:ext cx="60840" cy="687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2747160" y="4895640"/>
                <a:ext cx="45360" cy="6940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2792520" y="5589720"/>
                <a:ext cx="60840" cy="25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2853720" y="5589720"/>
                <a:ext cx="46080" cy="25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 flipV="1">
                <a:off x="2899800" y="4964040"/>
                <a:ext cx="60480" cy="6253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 flipV="1">
                <a:off x="2960640" y="4409280"/>
                <a:ext cx="46080" cy="5551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006720" y="4409280"/>
                <a:ext cx="60840" cy="25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 flipV="1">
                <a:off x="3067920" y="4391280"/>
                <a:ext cx="45360" cy="176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 flipV="1">
                <a:off x="3113280" y="4374360"/>
                <a:ext cx="60840" cy="169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 flipV="1">
                <a:off x="3174480" y="4322520"/>
                <a:ext cx="45360" cy="514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3220200" y="4322880"/>
                <a:ext cx="60840" cy="25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 flipV="1">
                <a:off x="3281400" y="4235400"/>
                <a:ext cx="60840" cy="871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3342600" y="4235400"/>
                <a:ext cx="45360" cy="32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3387960" y="4235400"/>
                <a:ext cx="60840" cy="871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3449160" y="4322880"/>
                <a:ext cx="45360" cy="25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3494880" y="4322880"/>
                <a:ext cx="60840" cy="25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3556080" y="4322880"/>
                <a:ext cx="46080" cy="25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3602160" y="4322880"/>
                <a:ext cx="60840" cy="25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 flipV="1">
                <a:off x="3663360" y="4304520"/>
                <a:ext cx="45360" cy="176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 flipV="1">
                <a:off x="3708720" y="4235040"/>
                <a:ext cx="60840" cy="694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 flipV="1">
                <a:off x="3769920" y="4165560"/>
                <a:ext cx="45360" cy="694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815640" y="4165920"/>
                <a:ext cx="60840" cy="345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 flipV="1">
                <a:off x="3876840" y="4130640"/>
                <a:ext cx="45360" cy="694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 flipV="1">
                <a:off x="3922200" y="4061880"/>
                <a:ext cx="60840" cy="687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 flipV="1">
                <a:off x="3983400" y="4027320"/>
                <a:ext cx="60840" cy="345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4044600" y="4027320"/>
                <a:ext cx="45360" cy="1731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 flipV="1">
                <a:off x="4089960" y="3974400"/>
                <a:ext cx="60840" cy="2257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 flipV="1">
                <a:off x="4151160" y="3888360"/>
                <a:ext cx="46080" cy="864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 flipV="1">
                <a:off x="4197600" y="3870720"/>
                <a:ext cx="60480" cy="169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4258080" y="3871080"/>
                <a:ext cx="46080" cy="687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flipV="1">
                <a:off x="4304160" y="3870720"/>
                <a:ext cx="60840" cy="687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 flipV="1">
                <a:off x="4365360" y="3836520"/>
                <a:ext cx="45360" cy="345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4410720" y="3836520"/>
                <a:ext cx="60840" cy="25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4471920" y="3836520"/>
                <a:ext cx="45360" cy="25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 flipV="1">
                <a:off x="4517640" y="3818520"/>
                <a:ext cx="60840" cy="176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4578840" y="3818880"/>
                <a:ext cx="60840" cy="32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 flipV="1">
                <a:off x="4640040" y="3766680"/>
                <a:ext cx="45360" cy="514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4685400" y="3767040"/>
                <a:ext cx="60840" cy="190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flipV="1">
                <a:off x="4746600" y="3905640"/>
                <a:ext cx="45360" cy="514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4792320" y="3906000"/>
                <a:ext cx="60840" cy="25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4853520" y="3906000"/>
                <a:ext cx="46080" cy="169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 flipV="1">
                <a:off x="4899600" y="3818520"/>
                <a:ext cx="60480" cy="1040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4960080" y="3818880"/>
                <a:ext cx="46080" cy="176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5006160" y="3836520"/>
                <a:ext cx="60840" cy="1382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5067360" y="3974760"/>
                <a:ext cx="45360" cy="345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5113080" y="4009680"/>
                <a:ext cx="60840" cy="1389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5174280" y="4149000"/>
                <a:ext cx="45360" cy="1040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5219640" y="4253040"/>
                <a:ext cx="60840" cy="25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5280840" y="4253040"/>
                <a:ext cx="60840" cy="345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 flipV="1">
                <a:off x="5342040" y="4253040"/>
                <a:ext cx="45360" cy="345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 flipV="1">
                <a:off x="5387760" y="4218480"/>
                <a:ext cx="60840" cy="345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448600" y="4218480"/>
                <a:ext cx="46080" cy="17013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 flipV="1">
                <a:off x="5495040" y="5901840"/>
                <a:ext cx="60480" cy="176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5555520" y="5902200"/>
                <a:ext cx="46080" cy="1040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 flipV="1">
                <a:off x="5601600" y="5954400"/>
                <a:ext cx="60840" cy="514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 flipV="1">
                <a:off x="5662800" y="5919840"/>
                <a:ext cx="45360" cy="345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 flipV="1">
                <a:off x="5708520" y="5901840"/>
                <a:ext cx="60840" cy="176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flipV="1">
                <a:off x="5769360" y="5607000"/>
                <a:ext cx="45360" cy="2952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5815080" y="5607000"/>
                <a:ext cx="60840" cy="32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5876280" y="5607000"/>
                <a:ext cx="60840" cy="176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5937480" y="5624640"/>
                <a:ext cx="45360" cy="25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 flipV="1">
                <a:off x="5982840" y="1683360"/>
                <a:ext cx="43200" cy="39409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4" name=""/>
            <p:cNvGrpSpPr/>
            <p:nvPr/>
          </p:nvGrpSpPr>
          <p:grpSpPr>
            <a:xfrm>
              <a:off x="1022040" y="1683360"/>
              <a:ext cx="5220000" cy="4271040"/>
              <a:chOff x="1022040" y="1683360"/>
              <a:chExt cx="5220000" cy="4271040"/>
            </a:xfrm>
          </p:grpSpPr>
          <p:sp>
            <p:nvSpPr>
              <p:cNvPr id="2125" name=""/>
              <p:cNvSpPr/>
              <p:nvPr/>
            </p:nvSpPr>
            <p:spPr>
              <a:xfrm>
                <a:off x="6061680" y="1683720"/>
                <a:ext cx="27360" cy="22392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6089400" y="3922920"/>
                <a:ext cx="60840" cy="1558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6150600" y="4079160"/>
                <a:ext cx="46080" cy="2602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1068120" y="4270320"/>
                <a:ext cx="45360" cy="2257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1113480" y="4496040"/>
                <a:ext cx="60840" cy="25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1174680" y="4496040"/>
                <a:ext cx="45360" cy="20844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 flipV="1">
                <a:off x="1220400" y="4686480"/>
                <a:ext cx="60840" cy="1764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 flipV="1">
                <a:off x="1281600" y="4426200"/>
                <a:ext cx="45360" cy="2602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1326960" y="4426560"/>
                <a:ext cx="60840" cy="12150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 flipV="1">
                <a:off x="1388160" y="4912200"/>
                <a:ext cx="60840" cy="7290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1449360" y="4912560"/>
                <a:ext cx="45360" cy="9892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flipV="1">
                <a:off x="1495080" y="5329080"/>
                <a:ext cx="60840" cy="57276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1555920" y="5329440"/>
                <a:ext cx="46080" cy="2602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1602360" y="5589720"/>
                <a:ext cx="604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 flipV="1">
                <a:off x="1662840" y="5624280"/>
                <a:ext cx="46080" cy="169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1708920" y="5624640"/>
                <a:ext cx="60840" cy="69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1770120" y="5694120"/>
                <a:ext cx="45360" cy="25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1815840" y="5694120"/>
                <a:ext cx="60840" cy="25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 flipV="1">
                <a:off x="1876680" y="564120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1922400" y="5641560"/>
                <a:ext cx="60840" cy="1764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 flipV="1">
                <a:off x="1983600" y="5606640"/>
                <a:ext cx="6084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 flipV="1">
                <a:off x="2044800" y="5520240"/>
                <a:ext cx="45360" cy="864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2090160" y="5520240"/>
                <a:ext cx="60840" cy="864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 flipV="1">
                <a:off x="2151360" y="5415840"/>
                <a:ext cx="46080" cy="1908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 flipV="1">
                <a:off x="2197440" y="4478760"/>
                <a:ext cx="60480" cy="9367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258280" y="4478760"/>
                <a:ext cx="46080" cy="27756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 flipV="1">
                <a:off x="2304360" y="4634640"/>
                <a:ext cx="60840" cy="1213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flipV="1">
                <a:off x="2365560" y="4565160"/>
                <a:ext cx="45360" cy="69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 flipV="1">
                <a:off x="2410920" y="4513320"/>
                <a:ext cx="6084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 flipV="1">
                <a:off x="2472120" y="4478760"/>
                <a:ext cx="45360" cy="3456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2517840" y="4478760"/>
                <a:ext cx="60840" cy="3456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2579040" y="4513680"/>
                <a:ext cx="45360" cy="25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2624400" y="4513680"/>
                <a:ext cx="60840" cy="25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2685600" y="4513680"/>
                <a:ext cx="60840" cy="169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2746800" y="4530600"/>
                <a:ext cx="45360" cy="169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 flipV="1">
                <a:off x="2792520" y="4513680"/>
                <a:ext cx="60840" cy="3384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flipV="1">
                <a:off x="2853720" y="4478760"/>
                <a:ext cx="46080" cy="3456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 flipV="1">
                <a:off x="2899800" y="4444200"/>
                <a:ext cx="60480" cy="3456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 flipV="1">
                <a:off x="2960280" y="4409280"/>
                <a:ext cx="46080" cy="3456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3006360" y="4409280"/>
                <a:ext cx="60840" cy="25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 flipV="1">
                <a:off x="3067560" y="4391280"/>
                <a:ext cx="45360" cy="1764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 flipV="1">
                <a:off x="3113280" y="4374360"/>
                <a:ext cx="60840" cy="169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 flipV="1">
                <a:off x="3174480" y="43225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3219840" y="4322880"/>
                <a:ext cx="60840" cy="25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 flipV="1">
                <a:off x="3281040" y="4235400"/>
                <a:ext cx="60840" cy="871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3342240" y="4235400"/>
                <a:ext cx="45360" cy="324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3387960" y="4235400"/>
                <a:ext cx="60840" cy="871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3448800" y="4322880"/>
                <a:ext cx="45360" cy="25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3494520" y="4322880"/>
                <a:ext cx="60840" cy="25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3555720" y="4322880"/>
                <a:ext cx="46080" cy="25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3601800" y="4322880"/>
                <a:ext cx="60840" cy="25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 flipV="1">
                <a:off x="3663000" y="4304520"/>
                <a:ext cx="45360" cy="1764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 flipV="1">
                <a:off x="3708720" y="4235040"/>
                <a:ext cx="60840" cy="69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 flipV="1">
                <a:off x="3769560" y="4165560"/>
                <a:ext cx="45360" cy="69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3815280" y="4165920"/>
                <a:ext cx="60840" cy="3456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 flipV="1">
                <a:off x="3876480" y="4130640"/>
                <a:ext cx="45360" cy="69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flipV="1">
                <a:off x="3921840" y="4061880"/>
                <a:ext cx="60840" cy="6876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 flipV="1">
                <a:off x="3983040" y="4027320"/>
                <a:ext cx="60840" cy="3456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4044240" y="4027320"/>
                <a:ext cx="45360" cy="17316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flipV="1">
                <a:off x="4089960" y="3974400"/>
                <a:ext cx="60840" cy="2257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 flipV="1">
                <a:off x="4151160" y="3888360"/>
                <a:ext cx="46080" cy="864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 flipV="1">
                <a:off x="4197240" y="3870720"/>
                <a:ext cx="60480" cy="169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257720" y="3871080"/>
                <a:ext cx="46080" cy="6876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 flipV="1">
                <a:off x="4303800" y="3870720"/>
                <a:ext cx="60840" cy="6876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 flipV="1">
                <a:off x="4365000" y="3836520"/>
                <a:ext cx="45360" cy="3456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4410720" y="3836520"/>
                <a:ext cx="60840" cy="25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4471920" y="3836520"/>
                <a:ext cx="45360" cy="25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flipV="1">
                <a:off x="4517280" y="3818520"/>
                <a:ext cx="60840" cy="1764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4578480" y="3818880"/>
                <a:ext cx="60840" cy="324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 flipV="1">
                <a:off x="4639680" y="37666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4685400" y="3767040"/>
                <a:ext cx="60840" cy="1908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flipV="1">
                <a:off x="4746600" y="39056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4791960" y="3906000"/>
                <a:ext cx="60840" cy="25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4853160" y="3906000"/>
                <a:ext cx="46080" cy="169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flipV="1">
                <a:off x="4899240" y="3818520"/>
                <a:ext cx="60480" cy="10404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4959720" y="3818880"/>
                <a:ext cx="46080" cy="1764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006160" y="3836520"/>
                <a:ext cx="60840" cy="13824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067360" y="3974760"/>
                <a:ext cx="45360" cy="3456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112720" y="4009680"/>
                <a:ext cx="60840" cy="13896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173920" y="4149000"/>
                <a:ext cx="45360" cy="10404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219640" y="4253040"/>
                <a:ext cx="60840" cy="25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280480" y="4253040"/>
                <a:ext cx="60840" cy="3456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 flipV="1">
                <a:off x="5341680" y="4253040"/>
                <a:ext cx="45360" cy="3456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 flipV="1">
                <a:off x="5387400" y="4218480"/>
                <a:ext cx="60840" cy="3456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 flipV="1">
                <a:off x="5448600" y="4061880"/>
                <a:ext cx="46080" cy="1558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494680" y="4062240"/>
                <a:ext cx="60480" cy="3456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 flipV="1">
                <a:off x="5555160" y="4026960"/>
                <a:ext cx="46080" cy="69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601240" y="4027320"/>
                <a:ext cx="60840" cy="13824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662440" y="4165920"/>
                <a:ext cx="45360" cy="1566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5708160" y="4322880"/>
                <a:ext cx="60840" cy="3384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 flipV="1">
                <a:off x="5769360" y="4096800"/>
                <a:ext cx="45360" cy="25956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5814720" y="4097160"/>
                <a:ext cx="6084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5875920" y="4149000"/>
                <a:ext cx="60840" cy="25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5937120" y="4149000"/>
                <a:ext cx="45360" cy="2257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 flipV="1">
                <a:off x="5982840" y="1683360"/>
                <a:ext cx="37800" cy="26910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6061680" y="1683720"/>
                <a:ext cx="27360" cy="2239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089400" y="3922920"/>
                <a:ext cx="60840" cy="1558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150600" y="4079160"/>
                <a:ext cx="46080" cy="2602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1022040" y="421848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1068120" y="4444200"/>
                <a:ext cx="9108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1128600" y="444420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1174680" y="465228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1235880" y="463500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1281600" y="43747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1342800" y="55897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1403640" y="4860720"/>
                <a:ext cx="9108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1449360" y="585036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1510560" y="527760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1555920" y="553788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1617120" y="55897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1662840" y="557280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1724040" y="564156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1770120" y="564156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1831320" y="564156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1876680" y="55897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1937880" y="560700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1999080" y="555516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2044800" y="546840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2106000" y="555516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2151360" y="536400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2212560" y="433980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2258280" y="463500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2319480" y="449604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2365560" y="446112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2426040" y="439164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2472120" y="43567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2533320" y="446112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2579040" y="442656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2640240" y="442656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2701080" y="446112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2746800" y="444420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2808000" y="440928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2853720" y="43567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2914560" y="43567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2960280" y="43567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3021480" y="43567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3067560" y="433980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3128040" y="432288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3174480" y="42703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3235320" y="427032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3296520" y="418356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3342240" y="418356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3403440" y="427032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3448800" y="42703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3510000" y="42703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3555720" y="42703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3616920" y="42703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3663000" y="4253040"/>
                <a:ext cx="9108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3723480" y="418356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3769560" y="411408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3830760" y="414900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3876480" y="407916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3937680" y="400968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3998880" y="397476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4044240" y="414900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4105440" y="39229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4151160" y="383652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4212360" y="381888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4257720" y="388836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4318920" y="381888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4365000" y="378396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4425480" y="378396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4471920" y="378396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4533120" y="376704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4593600" y="376704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4639680" y="371448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4700880" y="3906000"/>
                <a:ext cx="9108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4746600" y="385344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4807440" y="385344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4853160" y="387108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4914360" y="376704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4959720" y="378396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5020920" y="39229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5067360" y="395784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5128200" y="4097160"/>
                <a:ext cx="9108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5173920" y="420084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5235120" y="420084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5296320" y="423540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5341680" y="420084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5402880" y="41659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5448600" y="390600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5509800" y="39229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5555160" y="385344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5616360" y="399276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5662440" y="418356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5723280" y="420084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5769360" y="395784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5830560" y="400968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5891040" y="400968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5937120" y="423540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6044040" y="387108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6104880" y="402732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6150600" y="428796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1022040" y="421848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1068120" y="4444200"/>
                <a:ext cx="91080" cy="103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1128600" y="4444200"/>
                <a:ext cx="91440" cy="103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1174680" y="465228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1235880" y="4635000"/>
                <a:ext cx="9108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1281600" y="437472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1342800" y="558972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5" name=""/>
            <p:cNvGrpSpPr/>
            <p:nvPr/>
          </p:nvGrpSpPr>
          <p:grpSpPr>
            <a:xfrm>
              <a:off x="1007280" y="3714840"/>
              <a:ext cx="5235120" cy="2343240"/>
              <a:chOff x="1007280" y="3714840"/>
              <a:chExt cx="5235120" cy="2343240"/>
            </a:xfrm>
          </p:grpSpPr>
          <p:sp>
            <p:nvSpPr>
              <p:cNvPr id="2326" name=""/>
              <p:cNvSpPr/>
              <p:nvPr/>
            </p:nvSpPr>
            <p:spPr>
              <a:xfrm>
                <a:off x="1404000" y="4861080"/>
                <a:ext cx="91080" cy="103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1449720" y="585036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1510920" y="5277600"/>
                <a:ext cx="91440" cy="103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1556280" y="5537880"/>
                <a:ext cx="91440" cy="103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1617480" y="558972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1663200" y="5572800"/>
                <a:ext cx="91440" cy="103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1724400" y="564156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1770480" y="5641560"/>
                <a:ext cx="9108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1831680" y="5641560"/>
                <a:ext cx="9108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1877040" y="558972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1938240" y="5607000"/>
                <a:ext cx="9108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1999440" y="5555160"/>
                <a:ext cx="9108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2045160" y="546840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2106000" y="555516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2151720" y="536400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2212920" y="446148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2258280" y="472176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2319480" y="461736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2365920" y="4547880"/>
                <a:ext cx="9108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2426400" y="449604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2472480" y="446148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2533680" y="4461480"/>
                <a:ext cx="9108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2579400" y="4479120"/>
                <a:ext cx="91440" cy="103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2640240" y="4479120"/>
                <a:ext cx="91440" cy="103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2701440" y="4496040"/>
                <a:ext cx="9108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2747160" y="453096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2808360" y="449604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2853720" y="446148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2914920" y="440964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2960640" y="435708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3021840" y="435708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3067920" y="4339800"/>
                <a:ext cx="9108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3128400" y="4322880"/>
                <a:ext cx="91440" cy="103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3174480" y="427032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3235680" y="4270320"/>
                <a:ext cx="9108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3296880" y="4183920"/>
                <a:ext cx="9108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3342600" y="418392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3403800" y="4270320"/>
                <a:ext cx="9108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3449160" y="427032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3510360" y="427032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3556080" y="427032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3617280" y="427032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3663360" y="4253400"/>
                <a:ext cx="91080" cy="103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3723840" y="418392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3769920" y="4114080"/>
                <a:ext cx="9108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3831120" y="4149000"/>
                <a:ext cx="9108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3876840" y="407952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3938040" y="401004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3998880" y="3975120"/>
                <a:ext cx="9108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4044600" y="414900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4105800" y="392328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4151520" y="3836520"/>
                <a:ext cx="91440" cy="103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4212360" y="381888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4258080" y="388836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4319280" y="381888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4365360" y="3784320"/>
                <a:ext cx="9108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4425840" y="378432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4472280" y="378432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4533120" y="3767040"/>
                <a:ext cx="9108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4593960" y="376704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4640040" y="371484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4701240" y="3906360"/>
                <a:ext cx="91080" cy="103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4746600" y="385380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4807800" y="385380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4853520" y="3871440"/>
                <a:ext cx="91440" cy="103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4914720" y="376704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4960080" y="378432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021280" y="392328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5067360" y="3958200"/>
                <a:ext cx="9108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5128560" y="4097160"/>
                <a:ext cx="91080" cy="103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174280" y="420084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5235480" y="4200840"/>
                <a:ext cx="9108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296680" y="4235760"/>
                <a:ext cx="9108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342040" y="420084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403240" y="416592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448960" y="407952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510160" y="4097160"/>
                <a:ext cx="91440" cy="103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555520" y="404460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5616720" y="416592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5662800" y="4322880"/>
                <a:ext cx="91080" cy="103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5723640" y="435708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5769720" y="4097160"/>
                <a:ext cx="91440" cy="103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5830920" y="4149000"/>
                <a:ext cx="9108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5891400" y="414900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5937480" y="4357080"/>
                <a:ext cx="91440" cy="1040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6044400" y="3871440"/>
                <a:ext cx="91440" cy="103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6105240" y="4027680"/>
                <a:ext cx="91440" cy="103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6150960" y="4287960"/>
                <a:ext cx="91440" cy="103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1022040" y="421848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1068120" y="4444200"/>
                <a:ext cx="9108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1128960" y="444420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1175040" y="465228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1236240" y="463536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1281600" y="43747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1342800" y="55897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1404000" y="4861080"/>
                <a:ext cx="9108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1449720" y="585036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1510920" y="527760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1556280" y="553788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1617480" y="55897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1663200" y="557280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1724400" y="564156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1770480" y="564156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1831680" y="564156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1877040" y="55897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1938240" y="560700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1999440" y="555516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2045160" y="546840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2106000" y="555516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2151720" y="536400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2212920" y="564156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2258280" y="557280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2319480" y="58327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2365920" y="560700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2426400" y="55897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2472480" y="557280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2533680" y="446148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2579400" y="484308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2640240" y="491256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2701440" y="484308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2747160" y="553788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2808360" y="553788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2853720" y="553788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2914920" y="491256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2960640" y="435708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3021840" y="435708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3067920" y="433980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3128400" y="432288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3174480" y="42703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3235680" y="427032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3296880" y="418392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3342600" y="41839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3403800" y="427032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3449160" y="42703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3510360" y="42703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3556080" y="42703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3617280" y="42703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3663360" y="4253400"/>
                <a:ext cx="9108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3723840" y="41839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3769920" y="411408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3831120" y="414900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3876840" y="40795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3938040" y="401004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3998880" y="397512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4044600" y="414900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4105800" y="392328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4151520" y="383652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4212360" y="381888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4258080" y="388836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4319280" y="381888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4365360" y="378432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4425840" y="37843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4472280" y="37843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4533120" y="376704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4593960" y="376704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4640040" y="371484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4701240" y="3906360"/>
                <a:ext cx="9108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4746600" y="385380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4807800" y="385380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4853520" y="387144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4914720" y="376704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4960080" y="37843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5021280" y="392328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5067360" y="395820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5128560" y="4097160"/>
                <a:ext cx="9108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5174280" y="420084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5235480" y="420084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5296680" y="423576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5342040" y="420084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5403240" y="416592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5448960" y="586728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5510160" y="585036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5555520" y="595476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5616720" y="590220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5662800" y="586728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5723640" y="585036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5769720" y="5555160"/>
                <a:ext cx="9144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5830920" y="5555160"/>
                <a:ext cx="91080" cy="10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5891400" y="557280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5937480" y="557280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6044400" y="387144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6105240" y="402768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6150960" y="4287960"/>
                <a:ext cx="91440" cy="1033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1007280" y="4200840"/>
                <a:ext cx="15228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 flipH="1" flipV="1">
                <a:off x="1022040" y="421812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1068120" y="427032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 flipH="1">
                <a:off x="1022040" y="427032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 flipV="1">
                <a:off x="1068120" y="42181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1052640" y="4426560"/>
                <a:ext cx="15264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 flipH="1" flipV="1">
                <a:off x="1068120" y="44438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1113840" y="44960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 flipH="1">
                <a:off x="1068120" y="44960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 flipV="1">
                <a:off x="1113840" y="44438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1113840" y="4426560"/>
                <a:ext cx="15264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 flipH="1" flipV="1">
                <a:off x="1128960" y="444384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1175040" y="44960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 flipH="1">
                <a:off x="1128960" y="449604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 flipV="1">
                <a:off x="1175040" y="44438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1159560" y="4635360"/>
                <a:ext cx="15264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 flipH="1" flipV="1">
                <a:off x="1175040" y="465192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6" name=""/>
            <p:cNvGrpSpPr/>
            <p:nvPr/>
          </p:nvGrpSpPr>
          <p:grpSpPr>
            <a:xfrm>
              <a:off x="1175040" y="4166280"/>
              <a:ext cx="2304000" cy="1839960"/>
              <a:chOff x="1175040" y="4166280"/>
              <a:chExt cx="2304000" cy="1839960"/>
            </a:xfrm>
          </p:grpSpPr>
          <p:sp>
            <p:nvSpPr>
              <p:cNvPr id="2527" name=""/>
              <p:cNvSpPr/>
              <p:nvPr/>
            </p:nvSpPr>
            <p:spPr>
              <a:xfrm>
                <a:off x="1220400" y="470484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 flipH="1">
                <a:off x="1175040" y="47048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 flipV="1">
                <a:off x="1220400" y="465192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1220400" y="4617360"/>
                <a:ext cx="15264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 flipH="1" flipV="1">
                <a:off x="1235880" y="463500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1281600" y="468720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 flipH="1">
                <a:off x="1235880" y="468720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 flipV="1">
                <a:off x="1281600" y="463500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1266480" y="4357080"/>
                <a:ext cx="15228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H="1" flipV="1">
                <a:off x="1281600" y="437436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1327320" y="442656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1281600" y="442656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1327320" y="437436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1327320" y="5572800"/>
                <a:ext cx="15264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H="1" flipV="1">
                <a:off x="1342800" y="558936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1388160" y="564156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H="1">
                <a:off x="1342800" y="564156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V="1">
                <a:off x="1388160" y="558936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1388160" y="4843080"/>
                <a:ext cx="15264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H="1" flipV="1">
                <a:off x="1404000" y="48607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1449360" y="49129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H="1">
                <a:off x="1404000" y="49129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1449360" y="48607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1434600" y="5832720"/>
                <a:ext cx="15228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H="1" flipV="1">
                <a:off x="1449360" y="585000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1495080" y="590220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H="1">
                <a:off x="1449360" y="590220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V="1">
                <a:off x="1495080" y="585000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1495080" y="5259960"/>
                <a:ext cx="15264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H="1" flipV="1">
                <a:off x="1510560" y="52772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1556280" y="532944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H="1">
                <a:off x="1510560" y="53294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1556280" y="527724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1541160" y="5520240"/>
                <a:ext cx="15228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H="1" flipV="1">
                <a:off x="1556280" y="553752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1602360" y="55897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H="1">
                <a:off x="1556280" y="558972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1602360" y="55375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1602360" y="5572800"/>
                <a:ext cx="15228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H="1" flipV="1">
                <a:off x="1617480" y="558936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1662840" y="564156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H="1">
                <a:off x="1617480" y="564156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1662840" y="558936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1647720" y="5555160"/>
                <a:ext cx="15264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H="1" flipV="1">
                <a:off x="1662840" y="557244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1708920" y="56246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H="1">
                <a:off x="1662840" y="562464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1708920" y="55724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1708920" y="5624640"/>
                <a:ext cx="15228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H="1" flipV="1">
                <a:off x="1724040" y="564120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1770120" y="56941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H="1">
                <a:off x="1724040" y="569412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1770120" y="564120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1754640" y="5624640"/>
                <a:ext cx="15264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H="1" flipV="1">
                <a:off x="1770120" y="564120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1815840" y="56941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H="1">
                <a:off x="1770120" y="56941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V="1">
                <a:off x="1815840" y="564120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1815840" y="5624640"/>
                <a:ext cx="15264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H="1" flipV="1">
                <a:off x="1831320" y="564120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1877040" y="56941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flipH="1">
                <a:off x="1831320" y="56941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V="1">
                <a:off x="1877040" y="564120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1861200" y="5572800"/>
                <a:ext cx="15264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flipH="1" flipV="1">
                <a:off x="1877040" y="558936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1922400" y="564156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 flipH="1">
                <a:off x="1877040" y="564156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 flipV="1">
                <a:off x="1922400" y="558936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1922400" y="5589720"/>
                <a:ext cx="15264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 flipH="1" flipV="1">
                <a:off x="1937880" y="560664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1983600" y="565956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 flipH="1">
                <a:off x="1937880" y="565956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V="1">
                <a:off x="1983600" y="560664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1983600" y="5537880"/>
                <a:ext cx="15264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flipH="1" flipV="1">
                <a:off x="1999080" y="555480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2044800" y="560700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 flipH="1">
                <a:off x="1999080" y="560700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V="1">
                <a:off x="2044800" y="555480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2029320" y="5450760"/>
                <a:ext cx="15264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H="1" flipV="1">
                <a:off x="2044800" y="54680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2090160" y="552024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H="1">
                <a:off x="2044800" y="552024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V="1">
                <a:off x="2090160" y="546804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2090160" y="5537880"/>
                <a:ext cx="15264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 flipH="1" flipV="1">
                <a:off x="2106000" y="555480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2151360" y="560700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 flipH="1">
                <a:off x="2106000" y="560700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V="1">
                <a:off x="2151360" y="555480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2136600" y="5347080"/>
                <a:ext cx="15228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 flipH="1" flipV="1">
                <a:off x="2151360" y="536364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2197440" y="541584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 flipH="1">
                <a:off x="2151360" y="541584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V="1">
                <a:off x="2197440" y="53636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2197440" y="4409640"/>
                <a:ext cx="15228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 flipH="1" flipV="1">
                <a:off x="2212560" y="442620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2258280" y="447912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 flipH="1">
                <a:off x="2212560" y="44791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V="1">
                <a:off x="2258280" y="442620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2243160" y="4687200"/>
                <a:ext cx="15228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 flipH="1" flipV="1">
                <a:off x="2258280" y="470448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2304360" y="47566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 flipH="1">
                <a:off x="2258280" y="475668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V="1">
                <a:off x="2304360" y="47044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2304360" y="4565520"/>
                <a:ext cx="15228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 flipH="1" flipV="1">
                <a:off x="2319480" y="458244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2365560" y="463536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 flipH="1">
                <a:off x="2319480" y="463536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V="1">
                <a:off x="2365560" y="458244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2349720" y="4496040"/>
                <a:ext cx="15264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 flipH="1" flipV="1">
                <a:off x="2365560" y="45133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2410920" y="45655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 flipH="1">
                <a:off x="2365560" y="45655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V="1">
                <a:off x="2410920" y="45133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2410920" y="4444200"/>
                <a:ext cx="15264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 flipH="1" flipV="1">
                <a:off x="2426040" y="446112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2472120" y="45136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 flipH="1">
                <a:off x="2426040" y="451368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V="1">
                <a:off x="2472120" y="446112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2456640" y="4409640"/>
                <a:ext cx="15264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 flipH="1" flipV="1">
                <a:off x="2472120" y="442620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2517840" y="447912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 flipH="1">
                <a:off x="2472120" y="44791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V="1">
                <a:off x="2517840" y="442620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2517840" y="4444200"/>
                <a:ext cx="15264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 flipH="1" flipV="1">
                <a:off x="2533320" y="446112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2579040" y="45136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 flipH="1">
                <a:off x="2533320" y="45136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V="1">
                <a:off x="2579040" y="446112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2563920" y="4444200"/>
                <a:ext cx="15228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 flipH="1" flipV="1">
                <a:off x="2579040" y="446112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2624400" y="451368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 flipH="1">
                <a:off x="2579040" y="45136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V="1">
                <a:off x="2624400" y="446112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2624400" y="4444200"/>
                <a:ext cx="15264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 flipH="1" flipV="1">
                <a:off x="2639880" y="446112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2685600" y="451368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 flipH="1">
                <a:off x="2639880" y="45136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V="1">
                <a:off x="2685600" y="446112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2685600" y="4461480"/>
                <a:ext cx="15264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 flipH="1" flipV="1">
                <a:off x="2701080" y="447876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2746800" y="453096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 flipH="1">
                <a:off x="2701080" y="453096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V="1">
                <a:off x="2746800" y="447876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2731680" y="4479120"/>
                <a:ext cx="15228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 flipH="1" flipV="1">
                <a:off x="2746800" y="44956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2792160" y="454788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 flipH="1">
                <a:off x="2746800" y="454788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V="1">
                <a:off x="2792160" y="449568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2792160" y="4444200"/>
                <a:ext cx="15264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 flipH="1" flipV="1">
                <a:off x="2808000" y="446112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2853360" y="451368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 flipH="1">
                <a:off x="2808000" y="45136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V="1">
                <a:off x="2853360" y="446112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2838600" y="4409640"/>
                <a:ext cx="15228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 flipH="1" flipV="1">
                <a:off x="2853360" y="442620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2899800" y="44791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 flipH="1">
                <a:off x="2853360" y="447912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V="1">
                <a:off x="2899800" y="442620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2899800" y="4374720"/>
                <a:ext cx="15228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 flipH="1" flipV="1">
                <a:off x="2914560" y="439128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2960280" y="444420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 flipH="1">
                <a:off x="2914560" y="444420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V="1">
                <a:off x="2960280" y="439128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2945160" y="4339800"/>
                <a:ext cx="15264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 flipH="1" flipV="1">
                <a:off x="2960280" y="435672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3006360" y="44096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 flipH="1">
                <a:off x="2960280" y="440964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V="1">
                <a:off x="3006360" y="435672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3006360" y="4339800"/>
                <a:ext cx="15228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 flipH="1" flipV="1">
                <a:off x="3021480" y="435672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3067560" y="44096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 flipH="1">
                <a:off x="3021480" y="440964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 flipV="1">
                <a:off x="3067560" y="435672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3052080" y="4322880"/>
                <a:ext cx="15264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 flipH="1" flipV="1">
                <a:off x="3067560" y="43394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3112920" y="439164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 flipH="1">
                <a:off x="3067560" y="439164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 flipV="1">
                <a:off x="3112920" y="43394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3112920" y="4305240"/>
                <a:ext cx="15264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 flipH="1" flipV="1">
                <a:off x="3128040" y="432252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3174120" y="43747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 flipH="1">
                <a:off x="3128040" y="437472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flipV="1">
                <a:off x="3174120" y="43225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3158640" y="4253400"/>
                <a:ext cx="15264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 flipH="1" flipV="1">
                <a:off x="3174120" y="426996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3219840" y="432288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 flipH="1">
                <a:off x="3174120" y="43228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V="1">
                <a:off x="3219840" y="426996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3219840" y="4253400"/>
                <a:ext cx="15264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 flipH="1" flipV="1">
                <a:off x="3235320" y="426996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3281040" y="43228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 flipH="1">
                <a:off x="3235320" y="43228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 flipV="1">
                <a:off x="3281040" y="426996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3281040" y="4166280"/>
                <a:ext cx="15264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 flipH="1" flipV="1">
                <a:off x="3296520" y="418356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3342240" y="423576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 flipH="1">
                <a:off x="3296520" y="423576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 flipV="1">
                <a:off x="3342240" y="418356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3326400" y="4166280"/>
                <a:ext cx="15264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 flipH="1" flipV="1">
                <a:off x="3342240" y="418356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7" name=""/>
            <p:cNvGrpSpPr/>
            <p:nvPr/>
          </p:nvGrpSpPr>
          <p:grpSpPr>
            <a:xfrm>
              <a:off x="3342600" y="3697920"/>
              <a:ext cx="2304360" cy="728280"/>
              <a:chOff x="3342600" y="3697920"/>
              <a:chExt cx="2304360" cy="728280"/>
            </a:xfrm>
          </p:grpSpPr>
          <p:sp>
            <p:nvSpPr>
              <p:cNvPr id="2728" name=""/>
              <p:cNvSpPr/>
              <p:nvPr/>
            </p:nvSpPr>
            <p:spPr>
              <a:xfrm>
                <a:off x="3387960" y="423540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H="1">
                <a:off x="3342600" y="423540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 flipV="1">
                <a:off x="3387960" y="418356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3387960" y="4253400"/>
                <a:ext cx="15264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H="1" flipV="1">
                <a:off x="3403440" y="426996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3449160" y="43228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 flipH="1">
                <a:off x="3403440" y="43228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 flipV="1">
                <a:off x="3449160" y="426996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3434040" y="4253400"/>
                <a:ext cx="15228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 flipH="1" flipV="1">
                <a:off x="3449160" y="426996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3494880" y="432288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H="1">
                <a:off x="3449160" y="43228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V="1">
                <a:off x="3494880" y="426996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3494880" y="4253400"/>
                <a:ext cx="15264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H="1" flipV="1">
                <a:off x="3510360" y="426996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3555720" y="432288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>
                <a:off x="3510360" y="43228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V="1">
                <a:off x="3555720" y="426996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3540960" y="4253400"/>
                <a:ext cx="15228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 flipH="1" flipV="1">
                <a:off x="3555720" y="426996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3602160" y="43228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H="1">
                <a:off x="3555720" y="432288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3602160" y="426996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3602160" y="4253400"/>
                <a:ext cx="15228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H="1" flipV="1">
                <a:off x="3616920" y="426996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3663000" y="43228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H="1">
                <a:off x="3616920" y="432288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 flipV="1">
                <a:off x="3663000" y="426996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3647520" y="4235400"/>
                <a:ext cx="15264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H="1" flipV="1">
                <a:off x="3663000" y="42530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3708720" y="43052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H="1">
                <a:off x="3663000" y="43052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flipV="1">
                <a:off x="3708720" y="42530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3708720" y="4165920"/>
                <a:ext cx="15228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 flipH="1" flipV="1">
                <a:off x="3723840" y="418356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3769920" y="423540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H="1">
                <a:off x="3723840" y="423540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3769920" y="418356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3754440" y="4097160"/>
                <a:ext cx="15264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 flipV="1">
                <a:off x="3769920" y="41137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3815280" y="416592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 flipH="1">
                <a:off x="3769920" y="416592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 flipV="1">
                <a:off x="3815280" y="41137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3815280" y="4131360"/>
                <a:ext cx="15264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 flipH="1" flipV="1">
                <a:off x="3831120" y="41486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3876480" y="420084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flipH="1">
                <a:off x="3831120" y="420084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 flipV="1">
                <a:off x="3876480" y="41486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3861000" y="4062600"/>
                <a:ext cx="15264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 flipH="1" flipV="1">
                <a:off x="3876480" y="407916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3922200" y="413136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 flipH="1">
                <a:off x="3876480" y="413136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 flipV="1">
                <a:off x="3922200" y="407916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3922200" y="3992760"/>
                <a:ext cx="15264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 flipH="1" flipV="1">
                <a:off x="3937680" y="400968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3983400" y="406260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 flipH="1">
                <a:off x="3937680" y="406260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 flipV="1">
                <a:off x="3983400" y="400968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3983400" y="3958200"/>
                <a:ext cx="15264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 flipH="1" flipV="1">
                <a:off x="3998880" y="397476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4044600" y="40276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 flipH="1">
                <a:off x="3998880" y="40276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 flipV="1">
                <a:off x="4044600" y="397476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4029480" y="4131360"/>
                <a:ext cx="15228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 flipH="1" flipV="1">
                <a:off x="4044600" y="41486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4089960" y="420084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 flipH="1">
                <a:off x="4044600" y="420084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 flipV="1">
                <a:off x="4089960" y="414864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4089960" y="3906360"/>
                <a:ext cx="15264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 flipH="1" flipV="1">
                <a:off x="4105440" y="39229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4151160" y="397512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 flipH="1">
                <a:off x="4105440" y="397512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 flipV="1">
                <a:off x="4151160" y="392292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4136040" y="3819240"/>
                <a:ext cx="15228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 flipH="1" flipV="1">
                <a:off x="4151160" y="383652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4197240" y="38887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 flipH="1">
                <a:off x="4151160" y="388872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 flipV="1">
                <a:off x="4197240" y="38365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4197240" y="3801960"/>
                <a:ext cx="15228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 flipH="1" flipV="1">
                <a:off x="4212360" y="381888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4257720" y="387144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 flipH="1">
                <a:off x="4212360" y="38714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 flipV="1">
                <a:off x="4257720" y="381888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4242960" y="3871440"/>
                <a:ext cx="15264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 flipH="1" flipV="1">
                <a:off x="4257720" y="388836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4304160" y="394056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 flipH="1">
                <a:off x="4257720" y="394056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 flipV="1">
                <a:off x="4304160" y="388836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4304160" y="3801960"/>
                <a:ext cx="15228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 flipH="1" flipV="1">
                <a:off x="4318920" y="381888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4365000" y="38714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 flipH="1">
                <a:off x="4318920" y="387144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 flipV="1">
                <a:off x="4365000" y="381888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4349520" y="3767400"/>
                <a:ext cx="15264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 flipH="1" flipV="1">
                <a:off x="4365000" y="378396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4410720" y="38368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 flipH="1">
                <a:off x="4365000" y="38368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 flipV="1">
                <a:off x="4410720" y="378396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4410720" y="3767400"/>
                <a:ext cx="15264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 flipH="1" flipV="1">
                <a:off x="4425840" y="378396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4471920" y="38368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 flipH="1">
                <a:off x="4425840" y="383688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 flipV="1">
                <a:off x="4471920" y="378396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4456440" y="3767400"/>
                <a:ext cx="15264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 flipH="1" flipV="1">
                <a:off x="4471920" y="378396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4517280" y="383688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 flipH="1">
                <a:off x="4471920" y="38368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 flipV="1">
                <a:off x="4517280" y="378396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4517280" y="3749400"/>
                <a:ext cx="15264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 flipH="1" flipV="1">
                <a:off x="4533120" y="37670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4578480" y="381924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 flipH="1">
                <a:off x="4533120" y="381924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 flipV="1">
                <a:off x="4578480" y="37670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4578480" y="3749400"/>
                <a:ext cx="15264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 flipH="1" flipV="1">
                <a:off x="4593600" y="376704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4639680" y="381924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 flipH="1">
                <a:off x="4593600" y="381924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 flipV="1">
                <a:off x="4639680" y="37670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4624200" y="3697920"/>
                <a:ext cx="15264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 flipH="1" flipV="1">
                <a:off x="4639680" y="371448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4685400" y="376740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 flipH="1">
                <a:off x="4639680" y="376740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 flipV="1">
                <a:off x="4685400" y="371448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4685400" y="3888720"/>
                <a:ext cx="15264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 flipH="1" flipV="1">
                <a:off x="4700880" y="390600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4746600" y="395820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 flipH="1">
                <a:off x="4700880" y="395820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 flipV="1">
                <a:off x="4746600" y="390600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4731480" y="3836880"/>
                <a:ext cx="15228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 flipH="1" flipV="1">
                <a:off x="4746600" y="385344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4791960" y="390636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 flipH="1">
                <a:off x="4746600" y="390636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 flipV="1">
                <a:off x="4791960" y="385344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4791960" y="3836880"/>
                <a:ext cx="15264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 flipH="1" flipV="1">
                <a:off x="4807440" y="385344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4853160" y="390636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 flipH="1">
                <a:off x="4807440" y="390636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 flipV="1">
                <a:off x="4853160" y="385344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4838040" y="3853800"/>
                <a:ext cx="15228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 flipH="1" flipV="1">
                <a:off x="4853160" y="387108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4899240" y="39232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 flipH="1">
                <a:off x="4853160" y="392328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 flipV="1">
                <a:off x="4899240" y="38710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4899240" y="3749400"/>
                <a:ext cx="15228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 flipH="1" flipV="1">
                <a:off x="4914360" y="37670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4959720" y="381924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 flipH="1">
                <a:off x="4914360" y="381924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 flipV="1">
                <a:off x="4959720" y="376704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4944960" y="3767400"/>
                <a:ext cx="15264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 flipH="1" flipV="1">
                <a:off x="4959720" y="378396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5006160" y="38368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 flipH="1">
                <a:off x="4959720" y="383688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 flipV="1">
                <a:off x="5006160" y="378396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5006160" y="3906360"/>
                <a:ext cx="15228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 flipH="1" flipV="1">
                <a:off x="5020920" y="392292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5067360" y="397512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 flipH="1">
                <a:off x="5020920" y="397512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 flipV="1">
                <a:off x="5067360" y="392292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5051520" y="3940560"/>
                <a:ext cx="15264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H="1" flipV="1">
                <a:off x="5067360" y="39578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5112720" y="401004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H="1">
                <a:off x="5067360" y="401004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V="1">
                <a:off x="5112720" y="395784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5112720" y="4079520"/>
                <a:ext cx="15264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H="1" flipV="1">
                <a:off x="5128200" y="409680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5173920" y="414900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H="1">
                <a:off x="5128200" y="414900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V="1">
                <a:off x="5173920" y="409680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5158440" y="4183920"/>
                <a:ext cx="15264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H="1" flipV="1">
                <a:off x="5173920" y="420048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5219640" y="425340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H="1">
                <a:off x="5173920" y="425340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V="1">
                <a:off x="5219640" y="420048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5219640" y="4183920"/>
                <a:ext cx="15264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H="1" flipV="1">
                <a:off x="5235120" y="420048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5280480" y="425340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H="1">
                <a:off x="5235120" y="425340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V="1">
                <a:off x="5280480" y="420048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5280480" y="4218480"/>
                <a:ext cx="15264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H="1" flipV="1">
                <a:off x="5296320" y="423504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5341680" y="428796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H="1">
                <a:off x="5296320" y="428796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V="1">
                <a:off x="5341680" y="423504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5326200" y="4183920"/>
                <a:ext cx="15264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H="1" flipV="1">
                <a:off x="5341680" y="420048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5387400" y="425340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H="1">
                <a:off x="5341680" y="425340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V="1">
                <a:off x="5387400" y="420048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5387400" y="4149000"/>
                <a:ext cx="15264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H="1" flipV="1">
                <a:off x="5402880" y="416556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5448600" y="421848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H="1">
                <a:off x="5402880" y="421848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V="1">
                <a:off x="5448600" y="416556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5433480" y="3992760"/>
                <a:ext cx="15228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H="1" flipV="1">
                <a:off x="5448600" y="4009680"/>
                <a:ext cx="4608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5494680" y="4062600"/>
                <a:ext cx="4536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flipH="1">
                <a:off x="5448600" y="4062600"/>
                <a:ext cx="46080" cy="514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V="1">
                <a:off x="5494680" y="400968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5494680" y="4027680"/>
                <a:ext cx="15228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H="1" flipV="1">
                <a:off x="5509800" y="4044240"/>
                <a:ext cx="45360" cy="52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8" name=""/>
            <p:cNvSpPr/>
            <p:nvPr/>
          </p:nvSpPr>
          <p:spPr>
            <a:xfrm>
              <a:off x="5555880" y="4097520"/>
              <a:ext cx="4608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 flipH="1">
              <a:off x="5510520" y="4097520"/>
              <a:ext cx="4536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 flipV="1">
              <a:off x="5555880" y="4044600"/>
              <a:ext cx="46080" cy="522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5541120" y="3958200"/>
              <a:ext cx="15228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 flipH="1" flipV="1">
              <a:off x="5555880" y="3975120"/>
              <a:ext cx="46080" cy="522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5602320" y="4027680"/>
              <a:ext cx="4536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 flipH="1">
              <a:off x="5555880" y="4027680"/>
              <a:ext cx="4608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 flipV="1">
              <a:off x="5602320" y="3975120"/>
              <a:ext cx="45360" cy="522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5602320" y="4097520"/>
              <a:ext cx="15228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 flipH="1" flipV="1">
              <a:off x="5617080" y="4114440"/>
              <a:ext cx="4608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5663160" y="4166280"/>
              <a:ext cx="45360" cy="522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 flipH="1">
              <a:off x="5617080" y="4166280"/>
              <a:ext cx="46080" cy="522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 flipV="1">
              <a:off x="5663160" y="4114440"/>
              <a:ext cx="4536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5647680" y="4253760"/>
              <a:ext cx="15264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 flipH="1" flipV="1">
              <a:off x="5663160" y="4270320"/>
              <a:ext cx="45360" cy="522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5708880" y="4323240"/>
              <a:ext cx="4536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 flipH="1">
              <a:off x="5663160" y="4323240"/>
              <a:ext cx="4536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 flipV="1">
              <a:off x="5708880" y="4270320"/>
              <a:ext cx="45360" cy="522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5708880" y="4288320"/>
              <a:ext cx="15264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 flipH="1" flipV="1">
              <a:off x="5724000" y="4305600"/>
              <a:ext cx="4608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5770080" y="4357440"/>
              <a:ext cx="45360" cy="522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 flipH="1">
              <a:off x="5724000" y="4357440"/>
              <a:ext cx="46080" cy="522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 flipV="1">
              <a:off x="5770080" y="4305600"/>
              <a:ext cx="4536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5754600" y="4027680"/>
              <a:ext cx="15264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 flipH="1" flipV="1">
              <a:off x="5770080" y="4044600"/>
              <a:ext cx="45360" cy="522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5815800" y="4097520"/>
              <a:ext cx="4608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 flipH="1">
              <a:off x="5770080" y="4097520"/>
              <a:ext cx="4536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 flipV="1">
              <a:off x="5815800" y="4044600"/>
              <a:ext cx="46080" cy="522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5815800" y="4079520"/>
              <a:ext cx="152640" cy="1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 flipH="1" flipV="1">
              <a:off x="5831280" y="4097520"/>
              <a:ext cx="4536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5876640" y="4149360"/>
              <a:ext cx="4536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 flipH="1">
              <a:off x="5831280" y="4149360"/>
              <a:ext cx="4536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 flipV="1">
              <a:off x="5876640" y="4097520"/>
              <a:ext cx="4536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5876640" y="4079520"/>
              <a:ext cx="152640" cy="1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 flipH="1" flipV="1">
              <a:off x="5891760" y="4097520"/>
              <a:ext cx="4608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5937840" y="4149360"/>
              <a:ext cx="4536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 flipH="1">
              <a:off x="5891760" y="4149360"/>
              <a:ext cx="4608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 flipV="1">
              <a:off x="5937840" y="4097520"/>
              <a:ext cx="4536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5922360" y="4305600"/>
              <a:ext cx="152640" cy="1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 flipH="1" flipV="1">
              <a:off x="5937840" y="4323240"/>
              <a:ext cx="4536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5983560" y="4375080"/>
              <a:ext cx="4608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 flipH="1">
              <a:off x="5937840" y="4375080"/>
              <a:ext cx="4536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 flipV="1">
              <a:off x="5983560" y="4323240"/>
              <a:ext cx="4608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6029640" y="3853800"/>
              <a:ext cx="152280" cy="1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 flipH="1" flipV="1">
              <a:off x="6044760" y="3871800"/>
              <a:ext cx="4536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6090120" y="3923640"/>
              <a:ext cx="4608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 flipH="1">
              <a:off x="6044760" y="3923640"/>
              <a:ext cx="4536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 flipV="1">
              <a:off x="6090120" y="3871800"/>
              <a:ext cx="4608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6090120" y="4010040"/>
              <a:ext cx="152640" cy="1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 flipH="1" flipV="1">
              <a:off x="6105960" y="4027680"/>
              <a:ext cx="4536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6151320" y="4079520"/>
              <a:ext cx="4608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 flipH="1">
              <a:off x="6105960" y="4079520"/>
              <a:ext cx="4536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 flipV="1">
              <a:off x="6151320" y="4027680"/>
              <a:ext cx="4608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6136560" y="4270680"/>
              <a:ext cx="152280" cy="1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 flipH="1" flipV="1">
              <a:off x="6151320" y="4288320"/>
              <a:ext cx="4608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6197760" y="4340160"/>
              <a:ext cx="4536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 flipH="1">
              <a:off x="6151320" y="4340160"/>
              <a:ext cx="4608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 flipV="1">
              <a:off x="6197760" y="4288320"/>
              <a:ext cx="4536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228960" y="633708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$50.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228960" y="571176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$30.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228960" y="506916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$10.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289440" y="444456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10.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289440" y="380196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30.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289440" y="317664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50.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289440" y="255204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70.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289440" y="190944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90.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 rot="16200000">
              <a:off x="862560" y="517140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: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 rot="16200000">
              <a:off x="1246680" y="517140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: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 rot="16200000">
              <a:off x="1610280" y="517140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: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 rot="16200000">
              <a:off x="1989360" y="517140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: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 rot="16200000">
              <a:off x="2378880" y="517140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: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 rot="16200000">
              <a:off x="2757960" y="517140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9: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 rot="16200000">
              <a:off x="3085560" y="523476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: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 rot="16200000">
              <a:off x="3449160" y="523476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2: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 rot="16200000">
              <a:off x="3836160" y="5231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4: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 rot="16200000">
              <a:off x="4212360" y="523476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6: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 rot="16200000">
              <a:off x="4594320" y="523476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7: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 rot="16200000">
              <a:off x="4960800" y="523476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9: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 rot="16200000">
              <a:off x="5339880" y="523476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1: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 rot="16200000">
              <a:off x="5721120" y="523476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3: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6396120" y="3367800"/>
              <a:ext cx="2686320" cy="1475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6472080" y="3576240"/>
              <a:ext cx="411840" cy="25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6624720" y="3524040"/>
              <a:ext cx="91440" cy="1040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6932880" y="3420000"/>
              <a:ext cx="163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rth Zone 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6472080" y="3940560"/>
              <a:ext cx="411840" cy="32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6624720" y="3888720"/>
              <a:ext cx="91440" cy="1040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6932520" y="3784320"/>
              <a:ext cx="166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outh Zone 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6472080" y="4305600"/>
              <a:ext cx="411840" cy="2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6624720" y="4253760"/>
              <a:ext cx="91440" cy="10368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36"/>
                  </a:lnTo>
                  <a:lnTo>
                    <a:pt x="0" y="3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6932160" y="4149360"/>
              <a:ext cx="1578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st Zone 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6472080" y="4670280"/>
              <a:ext cx="411840" cy="252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6609600" y="4600800"/>
              <a:ext cx="15264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 flipH="1" flipV="1">
              <a:off x="6624720" y="4617360"/>
              <a:ext cx="46080" cy="522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6670800" y="4670280"/>
              <a:ext cx="4536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 flipH="1">
              <a:off x="6624720" y="4670280"/>
              <a:ext cx="46080" cy="51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 flipV="1">
              <a:off x="6670800" y="4617360"/>
              <a:ext cx="45360" cy="522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6932520" y="4514040"/>
              <a:ext cx="19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ouston Zone 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0" y="1371600"/>
              <a:ext cx="9143640" cy="548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Wind and demand correlation.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1896840" y="1371600"/>
            <a:ext cx="5682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lancing market prices, April 22, 2009, $/MW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Outline.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er-based economic dispa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-time market and exam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ssion limi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ion tax credits and renewable energy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ssion price r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 and demand corre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mitten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ting the cost estimates toge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Wind and demand correlation.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02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off-peak wind can be anticipated in forecast, centralized unit commitment could reduce wind curtailment by de-committing therm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ERCOT market does not have centralized unit commitment, 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nodal market will have centralized unit commit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longer-term, generation portfolio might adapt to “peakier” net load by increasing fraction of peaker and cycling capacity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Wind and demand correlation.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grpSp>
        <p:nvGrpSpPr>
          <p:cNvPr id="3031" name=""/>
          <p:cNvGrpSpPr/>
          <p:nvPr/>
        </p:nvGrpSpPr>
        <p:grpSpPr>
          <a:xfrm>
            <a:off x="363240" y="1504800"/>
            <a:ext cx="8336520" cy="860400"/>
            <a:chOff x="363240" y="1504800"/>
            <a:chExt cx="8336520" cy="860400"/>
          </a:xfrm>
        </p:grpSpPr>
        <p:sp>
          <p:nvSpPr>
            <p:cNvPr id="3032" name=""/>
            <p:cNvSpPr/>
            <p:nvPr/>
          </p:nvSpPr>
          <p:spPr>
            <a:xfrm>
              <a:off x="363240" y="1504800"/>
              <a:ext cx="369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ad-duration without win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4875120" y="1539720"/>
              <a:ext cx="3824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t Load-duration with win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t load = load minus win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4" name=""/>
          <p:cNvSpPr/>
          <p:nvPr/>
        </p:nvSpPr>
        <p:spPr>
          <a:xfrm>
            <a:off x="457200" y="609588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 flipV="1">
            <a:off x="457200" y="2666520"/>
            <a:ext cx="0" cy="3429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457200" y="3200400"/>
            <a:ext cx="3429000" cy="2895480"/>
          </a:xfrm>
          <a:custGeom>
            <a:avLst/>
            <a:gdLst/>
            <a:ahLst/>
            <a:rect l="l" t="t" r="r" b="b"/>
            <a:pathLst>
              <a:path w="2160" h="1824">
                <a:moveTo>
                  <a:pt x="0" y="0"/>
                </a:moveTo>
                <a:lnTo>
                  <a:pt x="240" y="336"/>
                </a:lnTo>
                <a:lnTo>
                  <a:pt x="2160" y="816"/>
                </a:lnTo>
                <a:lnTo>
                  <a:pt x="2160" y="1824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4968720" y="61308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 flipV="1">
            <a:off x="4968720" y="2701440"/>
            <a:ext cx="0" cy="3429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>
            <a:off x="610560" y="259092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,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>
            <a:off x="5105520" y="266688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 load,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>
            <a:off x="2118240" y="61372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>
            <a:off x="6934680" y="61722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4952880" y="3429000"/>
            <a:ext cx="3429000" cy="2666880"/>
          </a:xfrm>
          <a:custGeom>
            <a:avLst/>
            <a:gdLst/>
            <a:ahLst/>
            <a:rect l="l" t="t" r="r" b="b"/>
            <a:pathLst>
              <a:path w="2160" h="1680">
                <a:moveTo>
                  <a:pt x="0" y="0"/>
                </a:moveTo>
                <a:lnTo>
                  <a:pt x="240" y="384"/>
                </a:lnTo>
                <a:lnTo>
                  <a:pt x="2160" y="1488"/>
                </a:lnTo>
                <a:lnTo>
                  <a:pt x="2160" y="168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 flipH="1">
            <a:off x="456840" y="4495680"/>
            <a:ext cx="3429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 flipH="1">
            <a:off x="4952520" y="5791320"/>
            <a:ext cx="3429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457200" y="3733920"/>
            <a:ext cx="166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ak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Cyc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1051200" y="50706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>
            <a:off x="5639040" y="57150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5181480" y="4419720"/>
            <a:ext cx="166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ak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Cyc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Intermittency.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icity demand and supply must be matched essentially continuous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ching is achieved at various timesc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-term, by adjustment of generation resources in response to system frequency, “governor action” and “regulation,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um-term, through offer-based economic dispatch of resources to match average demand over 15 or 60 minute periods in organized markets and to acquire reser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eting demand involves more than load-duration iss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Intermittency.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ical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and for energy is uncontrollable (but somewhat predictable), whi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ion is controllable (and mostly predictab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 generation is intermittent at various timesca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ative deman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ion of wind involves more than net load-duration issu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Intermittency.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mittency of wind imposes requirements for additional ancillary servic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-term, increased regulatio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um-term, increased reserves and utilization of thermal resources with ramping capabilit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er-term (as regulation, reserve, and ramping capabilities of existing thermal generation portfolio become fully utilized), additional flexible thermal resources or stor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Intermittency.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ing penetration of wind means less thermal resources may be on-line to provide ancillary serv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-line thermal will operate at lower fractions of capacity and will be required to ramp mo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ibly worsened heat rates and emi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iver for more storage and more controllable dem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Intermittency.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05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ous studies have estimated the “wind integration” AS costs, with estimates varying from a few to a few tens of $/MW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tion in estimates reflec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tion in particulars of system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ck of standardization in estimating costs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ck of representation of intermittency in standard generation analysis too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xy upper bound to energy-related AS costs provided by cost of lead-acid battery based energy storage, around $40/MW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Intermittency.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ments for increased resources due to intermittency can be reduced by deliberately spilling win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e at below wind capability to enable contribution of “inertia” and regulatio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p from one power level to another at limited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since wind turbine costs are primarily capital, this will increase cost of wind pow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e-off between integration costs and increased cost of w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Intermittency.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06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ssive portfolio standards in the 20% to 30% range for energy will almost certainly involve significant changes in operations of both wind and thermal to cope with intermitten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(assuming all renewables are wind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% renewable portfolio standard by energ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% wind capacity factor (ratio of average production to wind capacity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5% load factor (ratio of average to peak demand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gnoring curtailment, wind capacity would be 55% of peak demand and would exceed minimum demand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Intermittency.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065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COT peak demand is about 62 G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% renewable portfolio standard for energy would require around 34 GW of wind capa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even with 8 GW of wind capacity today, prices are occasionally negative during off-peak in Spring in ERCOT, with minimum demand around 25 G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34 GW of wind, would need major changes to: operations; portfolio of generation; storage; and dema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1d58"/>
                </a:solidFill>
                <a:latin typeface="Times New Roman"/>
              </a:rPr>
              <a:t>Offer-based economic dispatch.</a:t>
            </a:r>
            <a:endParaRPr b="0" lang="en-US" sz="4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ors offer to sel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erg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rves and other Ancillary Services (AS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SO selects the offers to meet deman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y-ahead,” for tomorrow, based on anticipatio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-time,” to cope with actual cond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 on real-time energy market si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illustrate the main issue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does not currently have a day-ahead marke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 generators are unlikely to offer reserves and may not participate in the day-ahead mark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Intermittency.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06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possible changes to accommodate intermittenc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reserv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ely more agile peaking and cycling generatio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 spillag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essed-air energy storag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led charging of millions of PHEV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off-peak coal generation to power carbon dioxide separation and sequest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 to estimate capital and operating cost of optimal portfolio of chang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Intermittency.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06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oug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allpark proxy for energy-related AS cost due to intermittenc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lead-acid battery storage for 25% of wind energy productio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uld add 25% times $40/MWh = $10/MWh to cost of w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Putting the cost estimates together.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07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COT charges most costs of transmission construction to dem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th American markets generally charge all AS costs to demand, regardless of ca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we will add the wind-related transmission and wind-related AS costs to the cost of wind pow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s care when comparing to similar figures for other generation asset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costs are not necessarily reflected in market pr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Putting the cost estimates together.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 unsubsidized cost of wind energy is around $80/MW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$10/MWh incremental transmission for win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$10/MWh proxy to cost of intermittenc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is about $100/MW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balancing energy market price in ERCOT is around $50/MWh to $60/MW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 adds about $50/MWh to co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Putting the cost estimates together.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075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annual ERCOT retail energy sales are around 3 times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Wh, retail bill around $30 bill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chieve 30% renewable energy from wind would increase retail bill 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ery rough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3 times 3 times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Wh times $50/MWh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4.5 bill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er-based economic dispa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-time market and exam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ssion limi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ion tax credits and renewable energy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ssion price r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 and demand corre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mitten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ting the cost estimates toge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1d58"/>
                </a:solidFill>
                <a:latin typeface="Times New Roman"/>
              </a:rPr>
              <a:t>Offer-based economic dispatch.</a:t>
            </a:r>
            <a:endParaRPr b="0" lang="en-US" sz="4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057400" y="1447920"/>
            <a:ext cx="693432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ffer by a generator is a specification of price versus quant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es for a particular hour or range of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implify, we will consider “block” off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r to generate up to maximum power in the block in MW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nominated “offer price” in $/MW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75600" y="2666880"/>
            <a:ext cx="7345440" cy="4267800"/>
            <a:chOff x="75600" y="2666880"/>
            <a:chExt cx="7345440" cy="4267800"/>
          </a:xfrm>
        </p:grpSpPr>
        <p:sp>
          <p:nvSpPr>
            <p:cNvPr id="51" name="Rectangle 4"/>
            <p:cNvSpPr/>
            <p:nvPr/>
          </p:nvSpPr>
          <p:spPr>
            <a:xfrm>
              <a:off x="6415560" y="6099120"/>
              <a:ext cx="740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>
              <a:off x="2196360" y="6480000"/>
              <a:ext cx="486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3"/>
            <p:cNvSpPr/>
            <p:nvPr/>
          </p:nvSpPr>
          <p:spPr>
            <a:xfrm>
              <a:off x="3644280" y="6480000"/>
              <a:ext cx="638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5168160" y="6480000"/>
              <a:ext cx="638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Group 20"/>
            <p:cNvGrpSpPr/>
            <p:nvPr/>
          </p:nvGrpSpPr>
          <p:grpSpPr>
            <a:xfrm>
              <a:off x="319320" y="3048120"/>
              <a:ext cx="5868000" cy="3446280"/>
              <a:chOff x="319320" y="3048120"/>
              <a:chExt cx="5868000" cy="3446280"/>
            </a:xfrm>
          </p:grpSpPr>
          <p:sp>
            <p:nvSpPr>
              <p:cNvPr id="56" name="Freeform 3"/>
              <p:cNvSpPr/>
              <p:nvPr/>
            </p:nvSpPr>
            <p:spPr>
              <a:xfrm>
                <a:off x="929880" y="3657600"/>
                <a:ext cx="5257440" cy="266868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5"/>
              <p:cNvSpPr/>
              <p:nvPr/>
            </p:nvSpPr>
            <p:spPr>
              <a:xfrm>
                <a:off x="319320" y="3048120"/>
                <a:ext cx="11307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$/MW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7"/>
              <p:cNvSpPr/>
              <p:nvPr/>
            </p:nvSpPr>
            <p:spPr>
              <a:xfrm>
                <a:off x="943920" y="4800600"/>
                <a:ext cx="4571640" cy="1542960"/>
              </a:xfrm>
              <a:prstGeom prst="pie">
                <a:avLst/>
              </a:pr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9"/>
              <p:cNvSpPr/>
              <p:nvPr/>
            </p:nvSpPr>
            <p:spPr>
              <a:xfrm>
                <a:off x="2468160" y="618984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10"/>
              <p:cNvSpPr/>
              <p:nvPr/>
            </p:nvSpPr>
            <p:spPr>
              <a:xfrm>
                <a:off x="3992040" y="618984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11"/>
              <p:cNvSpPr/>
              <p:nvPr/>
            </p:nvSpPr>
            <p:spPr>
              <a:xfrm>
                <a:off x="5515920" y="618984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Line 16"/>
              <p:cNvSpPr/>
              <p:nvPr/>
            </p:nvSpPr>
            <p:spPr>
              <a:xfrm flipH="1">
                <a:off x="791640" y="4208400"/>
                <a:ext cx="30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Line 17"/>
              <p:cNvSpPr/>
              <p:nvPr/>
            </p:nvSpPr>
            <p:spPr>
              <a:xfrm flipH="1">
                <a:off x="791640" y="4818240"/>
                <a:ext cx="30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18"/>
              <p:cNvSpPr/>
              <p:nvPr/>
            </p:nvSpPr>
            <p:spPr>
              <a:xfrm>
                <a:off x="320040" y="4575240"/>
                <a:ext cx="4863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Rectangle 19"/>
              <p:cNvSpPr/>
              <p:nvPr/>
            </p:nvSpPr>
            <p:spPr>
              <a:xfrm>
                <a:off x="320040" y="3965400"/>
                <a:ext cx="4863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Text Box 19"/>
            <p:cNvSpPr/>
            <p:nvPr/>
          </p:nvSpPr>
          <p:spPr>
            <a:xfrm>
              <a:off x="75600" y="266688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ffer pr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20"/>
            <p:cNvSpPr/>
            <p:nvPr/>
          </p:nvSpPr>
          <p:spPr>
            <a:xfrm>
              <a:off x="6171840" y="571500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ant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Real-time market.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 selects the offers to meet its short-term forecast of demand based on offer pri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fer with lower offer price in preference to higher offer pr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 are “organized markets” of Northeast US (PJM, ISO-NE, NYISO), Midwest, California, Southwest Power Pool (SPP), and Texas (ERCOT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market called the “balancing market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7631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Real-time market.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s the price s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ghly speaking, highes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ccep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fer price or, equivalently, the offer price that would serve an additional MW of demand, sets the price for all energy so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more careful definition if insufficient offers to meet deman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more careful specification if at a jump in prices between block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we will see, will need to modify in the case of  limiting transmission constraints (“congestion”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Examples of real-time market </a:t>
            </a:r>
            <a:br>
              <a:rPr sz="4400"/>
            </a:b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with wind resources.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ill consider a very simple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ssion will be just two lines joining three “buses,” M, W, and 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ifies situation compared to reality, but useful as a star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 (at M and W) and thermal (at W and N) offer into the real-time market to meet demand (at 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unlimited transmission (Example 1) &amp; then consider limited transmission (Example 2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1d58"/>
                </a:solidFill>
                <a:latin typeface="Times New Roman"/>
              </a:rPr>
              <a:t>Example 1: unlimited transmission, 1500 MW demand at N, block offers.</a:t>
            </a:r>
            <a:endParaRPr b="0" lang="en-US" sz="4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5" name="Line 5"/>
          <p:cNvSpPr/>
          <p:nvPr/>
        </p:nvSpPr>
        <p:spPr>
          <a:xfrm>
            <a:off x="3657600" y="3657600"/>
            <a:ext cx="0" cy="82224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6"/>
          <p:cNvSpPr/>
          <p:nvPr/>
        </p:nvSpPr>
        <p:spPr>
          <a:xfrm>
            <a:off x="5943600" y="3581280"/>
            <a:ext cx="0" cy="91440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6481440" y="5562720"/>
            <a:ext cx="1502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00 M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6400800" y="1905120"/>
            <a:ext cx="1828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 MW offer @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00/MW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6"/>
          <p:cNvSpPr/>
          <p:nvPr/>
        </p:nvSpPr>
        <p:spPr>
          <a:xfrm>
            <a:off x="7848720" y="3581280"/>
            <a:ext cx="0" cy="91440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26"/>
          <p:cNvGrpSpPr/>
          <p:nvPr/>
        </p:nvGrpSpPr>
        <p:grpSpPr>
          <a:xfrm>
            <a:off x="0" y="1752480"/>
            <a:ext cx="1828800" cy="1295640"/>
            <a:chOff x="0" y="1752480"/>
            <a:chExt cx="1828800" cy="1295640"/>
          </a:xfrm>
        </p:grpSpPr>
        <p:sp>
          <p:nvSpPr>
            <p:cNvPr id="81" name="Rectangle 13"/>
            <p:cNvSpPr/>
            <p:nvPr/>
          </p:nvSpPr>
          <p:spPr>
            <a:xfrm>
              <a:off x="0" y="1828440"/>
              <a:ext cx="146232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 M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ffer  @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20/MW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" name="Picture 5" descr="C:\Users\baldick\AppData\Local\Microsoft\Windows\Temporary Internet Files\Content.IE5\9KA9IYP9\MCj02808140000[1].wmf"/>
            <p:cNvPicPr/>
            <p:nvPr/>
          </p:nvPicPr>
          <p:blipFill>
            <a:blip r:embed="rId1"/>
            <a:stretch/>
          </p:blipFill>
          <p:spPr>
            <a:xfrm>
              <a:off x="1371600" y="1752480"/>
              <a:ext cx="457200" cy="1295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" name="Picture 7" descr="C:\Users\baldick\AppData\Local\Microsoft\Windows\Temporary Internet Files\Content.IE5\UK5BVT5P\MCj04348070000[1].png"/>
          <p:cNvPicPr/>
          <p:nvPr/>
        </p:nvPicPr>
        <p:blipFill>
          <a:blip r:embed="rId2"/>
          <a:stretch/>
        </p:blipFill>
        <p:spPr>
          <a:xfrm>
            <a:off x="7848720" y="51814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84" name="Freeform 4"/>
          <p:cNvSpPr/>
          <p:nvPr/>
        </p:nvSpPr>
        <p:spPr>
          <a:xfrm>
            <a:off x="5105520" y="1981080"/>
            <a:ext cx="687240" cy="114480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reeform 4"/>
          <p:cNvSpPr/>
          <p:nvPr/>
        </p:nvSpPr>
        <p:spPr>
          <a:xfrm>
            <a:off x="8229600" y="1905120"/>
            <a:ext cx="687240" cy="1144440"/>
          </a:xfrm>
          <a:prstGeom prst="pie">
            <a:avLst/>
          </a:prstGeom>
          <a:solidFill>
            <a:srgbClr val="c0c0c0"/>
          </a:solidFill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3276720" y="1905120"/>
            <a:ext cx="1828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 MW offer @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50/MW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Group 27"/>
          <p:cNvGrpSpPr/>
          <p:nvPr/>
        </p:nvGrpSpPr>
        <p:grpSpPr>
          <a:xfrm>
            <a:off x="0" y="3733920"/>
            <a:ext cx="1828800" cy="1295280"/>
            <a:chOff x="0" y="3733920"/>
            <a:chExt cx="1828800" cy="1295280"/>
          </a:xfrm>
        </p:grpSpPr>
        <p:sp>
          <p:nvSpPr>
            <p:cNvPr id="88" name="Rectangle 13"/>
            <p:cNvSpPr/>
            <p:nvPr/>
          </p:nvSpPr>
          <p:spPr>
            <a:xfrm>
              <a:off x="0" y="3809880"/>
              <a:ext cx="146232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 M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ffer  @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20/MW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Picture 5" descr="C:\Users\baldick\AppData\Local\Microsoft\Windows\Temporary Internet Files\Content.IE5\9KA9IYP9\MCj02808140000[1].wmf"/>
            <p:cNvPicPr/>
            <p:nvPr/>
          </p:nvPicPr>
          <p:blipFill>
            <a:blip r:embed="rId3"/>
            <a:stretch/>
          </p:blipFill>
          <p:spPr>
            <a:xfrm>
              <a:off x="1371600" y="3733920"/>
              <a:ext cx="457200" cy="12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" name="Group 30"/>
          <p:cNvGrpSpPr/>
          <p:nvPr/>
        </p:nvGrpSpPr>
        <p:grpSpPr>
          <a:xfrm>
            <a:off x="0" y="5562720"/>
            <a:ext cx="1828800" cy="1295280"/>
            <a:chOff x="0" y="5562720"/>
            <a:chExt cx="1828800" cy="1295280"/>
          </a:xfrm>
        </p:grpSpPr>
        <p:sp>
          <p:nvSpPr>
            <p:cNvPr id="91" name="Rectangle 13"/>
            <p:cNvSpPr/>
            <p:nvPr/>
          </p:nvSpPr>
          <p:spPr>
            <a:xfrm>
              <a:off x="0" y="5638680"/>
              <a:ext cx="146232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 M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ffer  @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20/MW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Picture 5" descr="C:\Users\baldick\AppData\Local\Microsoft\Windows\Temporary Internet Files\Content.IE5\9KA9IYP9\MCj02808140000[1].wmf"/>
            <p:cNvPicPr/>
            <p:nvPr/>
          </p:nvPicPr>
          <p:blipFill>
            <a:blip r:embed="rId4"/>
            <a:stretch/>
          </p:blipFill>
          <p:spPr>
            <a:xfrm>
              <a:off x="1371600" y="5562720"/>
              <a:ext cx="457200" cy="12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Group 33"/>
          <p:cNvGrpSpPr/>
          <p:nvPr/>
        </p:nvGrpSpPr>
        <p:grpSpPr>
          <a:xfrm>
            <a:off x="2971800" y="5562720"/>
            <a:ext cx="1828800" cy="1295280"/>
            <a:chOff x="2971800" y="5562720"/>
            <a:chExt cx="1828800" cy="1295280"/>
          </a:xfrm>
        </p:grpSpPr>
        <p:sp>
          <p:nvSpPr>
            <p:cNvPr id="94" name="Rectangle 13"/>
            <p:cNvSpPr/>
            <p:nvPr/>
          </p:nvSpPr>
          <p:spPr>
            <a:xfrm>
              <a:off x="2971800" y="5638680"/>
              <a:ext cx="146232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 M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ffer  @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20/MW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" name="Picture 5" descr="C:\Users\baldick\AppData\Local\Microsoft\Windows\Temporary Internet Files\Content.IE5\9KA9IYP9\MCj02808140000[1].wmf"/>
            <p:cNvPicPr/>
            <p:nvPr/>
          </p:nvPicPr>
          <p:blipFill>
            <a:blip r:embed="rId5"/>
            <a:stretch/>
          </p:blipFill>
          <p:spPr>
            <a:xfrm>
              <a:off x="4343400" y="5562720"/>
              <a:ext cx="457200" cy="129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Straight Connector 37"/>
          <p:cNvSpPr/>
          <p:nvPr/>
        </p:nvSpPr>
        <p:spPr>
          <a:xfrm>
            <a:off x="1600200" y="2971800"/>
            <a:ext cx="2057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traight Connector 41"/>
          <p:cNvSpPr/>
          <p:nvPr/>
        </p:nvSpPr>
        <p:spPr>
          <a:xfrm flipV="1">
            <a:off x="1599480" y="4038480"/>
            <a:ext cx="205740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traight Connector 43"/>
          <p:cNvSpPr/>
          <p:nvPr/>
        </p:nvSpPr>
        <p:spPr>
          <a:xfrm flipV="1">
            <a:off x="1599480" y="4266720"/>
            <a:ext cx="2057400" cy="259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traight Connector 45"/>
          <p:cNvSpPr/>
          <p:nvPr/>
        </p:nvSpPr>
        <p:spPr>
          <a:xfrm flipV="1">
            <a:off x="4572000" y="4343040"/>
            <a:ext cx="137160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traight Connector 47"/>
          <p:cNvSpPr/>
          <p:nvPr/>
        </p:nvSpPr>
        <p:spPr>
          <a:xfrm>
            <a:off x="5486400" y="31240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traight Connector 49"/>
          <p:cNvSpPr/>
          <p:nvPr/>
        </p:nvSpPr>
        <p:spPr>
          <a:xfrm flipV="1">
            <a:off x="7848000" y="304776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Straight Arrow Connector 51"/>
          <p:cNvCxnSpPr/>
          <p:nvPr/>
        </p:nvCxnSpPr>
        <p:spPr>
          <a:xfrm>
            <a:off x="7847640" y="4343400"/>
            <a:ext cx="610200" cy="9914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03" name="Straight Connector 53"/>
          <p:cNvSpPr/>
          <p:nvPr/>
        </p:nvSpPr>
        <p:spPr>
          <a:xfrm>
            <a:off x="3657600" y="4038480"/>
            <a:ext cx="228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traight Connector 55"/>
          <p:cNvSpPr/>
          <p:nvPr/>
        </p:nvSpPr>
        <p:spPr>
          <a:xfrm>
            <a:off x="5943600" y="4038480"/>
            <a:ext cx="1905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32"/>
          <p:cNvSpPr/>
          <p:nvPr/>
        </p:nvSpPr>
        <p:spPr>
          <a:xfrm>
            <a:off x="3813120" y="41911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33"/>
          <p:cNvSpPr/>
          <p:nvPr/>
        </p:nvSpPr>
        <p:spPr>
          <a:xfrm>
            <a:off x="6098760" y="41911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34"/>
          <p:cNvSpPr/>
          <p:nvPr/>
        </p:nvSpPr>
        <p:spPr>
          <a:xfrm>
            <a:off x="8004600" y="380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Freeform 37"/>
          <p:cNvSpPr/>
          <p:nvPr/>
        </p:nvSpPr>
        <p:spPr>
          <a:xfrm>
            <a:off x="4529160" y="6045120"/>
            <a:ext cx="93600" cy="773280"/>
          </a:xfrm>
          <a:prstGeom prst="pie">
            <a:avLst/>
          </a:prstGeom>
          <a:solidFill>
            <a:srgbClr val="fc0128"/>
          </a:solidFill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38"/>
          <p:cNvSpPr/>
          <p:nvPr/>
        </p:nvSpPr>
        <p:spPr>
          <a:xfrm>
            <a:off x="4549680" y="5875200"/>
            <a:ext cx="181080" cy="20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reeform 39"/>
          <p:cNvSpPr/>
          <p:nvPr/>
        </p:nvSpPr>
        <p:spPr>
          <a:xfrm>
            <a:off x="4589640" y="5950080"/>
            <a:ext cx="50760" cy="830160"/>
          </a:xfrm>
          <a:prstGeom prst="pie">
            <a:avLst/>
          </a:prstGeom>
          <a:solidFill>
            <a:srgbClr val="fc0128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40"/>
          <p:cNvSpPr/>
          <p:nvPr/>
        </p:nvSpPr>
        <p:spPr>
          <a:xfrm>
            <a:off x="4548240" y="5905440"/>
            <a:ext cx="204840" cy="52560"/>
          </a:xfrm>
          <a:prstGeom prst="pie">
            <a:avLst/>
          </a:prstGeom>
          <a:solidFill>
            <a:srgbClr val="c2d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41"/>
          <p:cNvSpPr/>
          <p:nvPr/>
        </p:nvSpPr>
        <p:spPr>
          <a:xfrm>
            <a:off x="4370400" y="5916600"/>
            <a:ext cx="160200" cy="419040"/>
          </a:xfrm>
          <a:prstGeom prst="pie">
            <a:avLst/>
          </a:pr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reeform 42"/>
          <p:cNvSpPr/>
          <p:nvPr/>
        </p:nvSpPr>
        <p:spPr>
          <a:xfrm>
            <a:off x="4648320" y="5943600"/>
            <a:ext cx="38160" cy="506520"/>
          </a:xfrm>
          <a:prstGeom prst="pie">
            <a:avLst/>
          </a:prstGeom>
          <a:solidFill>
            <a:srgbClr val="fc0128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reeform 43"/>
          <p:cNvSpPr/>
          <p:nvPr/>
        </p:nvSpPr>
        <p:spPr>
          <a:xfrm>
            <a:off x="4545000" y="5913360"/>
            <a:ext cx="217440" cy="54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reeform 44"/>
          <p:cNvSpPr/>
          <p:nvPr/>
        </p:nvSpPr>
        <p:spPr>
          <a:xfrm>
            <a:off x="4629240" y="6504120"/>
            <a:ext cx="30240" cy="304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45"/>
          <p:cNvSpPr/>
          <p:nvPr/>
        </p:nvSpPr>
        <p:spPr>
          <a:xfrm>
            <a:off x="4383000" y="5921280"/>
            <a:ext cx="154080" cy="416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reeform 46"/>
          <p:cNvSpPr/>
          <p:nvPr/>
        </p:nvSpPr>
        <p:spPr>
          <a:xfrm>
            <a:off x="4503600" y="5867280"/>
            <a:ext cx="49320" cy="69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47"/>
          <p:cNvSpPr/>
          <p:nvPr/>
        </p:nvSpPr>
        <p:spPr>
          <a:xfrm>
            <a:off x="1617840" y="2139840"/>
            <a:ext cx="50760" cy="830520"/>
          </a:xfrm>
          <a:prstGeom prst="pie">
            <a:avLst/>
          </a:prstGeom>
          <a:solidFill>
            <a:srgbClr val="99cc00"/>
          </a:solidFill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reeform 48"/>
          <p:cNvSpPr/>
          <p:nvPr/>
        </p:nvSpPr>
        <p:spPr>
          <a:xfrm>
            <a:off x="1557360" y="4216320"/>
            <a:ext cx="93600" cy="773280"/>
          </a:xfrm>
          <a:prstGeom prst="pie">
            <a:avLst/>
          </a:prstGeom>
          <a:solidFill>
            <a:srgbClr val="99cc00"/>
          </a:solidFill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reeform 49"/>
          <p:cNvSpPr/>
          <p:nvPr/>
        </p:nvSpPr>
        <p:spPr>
          <a:xfrm>
            <a:off x="1557360" y="6045120"/>
            <a:ext cx="93600" cy="773280"/>
          </a:xfrm>
          <a:prstGeom prst="pie">
            <a:avLst/>
          </a:prstGeom>
          <a:solidFill>
            <a:srgbClr val="99cc00"/>
          </a:solidFill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7T00:38:29Z</dcterms:created>
  <dc:creator>Ross Baldick</dc:creator>
  <dc:description/>
  <dc:language>en-US</dc:language>
  <cp:lastModifiedBy>Ross Baldick</cp:lastModifiedBy>
  <cp:lastPrinted>1999-11-13T20:16:50Z</cp:lastPrinted>
  <dcterms:modified xsi:type="dcterms:W3CDTF">2009-06-08T17:15:28Z</dcterms:modified>
  <cp:revision>495</cp:revision>
  <dc:subject/>
  <dc:title>Power system planning.</dc:title>
</cp:coreProperties>
</file>